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12D-7733-489B-B821-5792D0C2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1D2-8495-4C72-8230-F9D393CF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0ECB-6259-4527-A2B2-6868F941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99F-BF33-4427-8BDD-08C9B425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5BC83-78FD-4DB1-B5A9-61E1123E5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3B84-93B4-420F-A071-52CA71B5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DF78-B64C-479F-9C83-BDA159E7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FF6F-1F66-47B1-AC03-CA942F1F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D5CB-DBB1-44E4-B06C-9005311C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603E-1175-4D2D-BE89-12E5732D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610C-C606-46AC-93AA-8312E124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A84-E20A-4375-8D14-14F7E916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CBCE-D644-4E4C-B9BE-ADBD2CF4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7339-0C32-462F-8028-CF4F320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AC39-E7AA-44FD-B7E7-263F93C9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BB72-BA82-4484-969E-24FCBB3A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2D4D-6942-4C5C-8CAC-E01BB891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DE3-A2F6-4DC8-9938-37BEDE63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8CA6-5743-4376-B3AD-D1CF71A5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075A-80A2-45B2-A94E-C9928F65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244-140E-4CDD-A804-4AAD9DCD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980-D1B2-4CA9-ABCA-E8A6227D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50B3-9900-438D-B8BD-FF716BA2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CBE-8907-462C-A30F-DFD964E1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3D74-4E4D-4672-BD4B-5D6CE537ED4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236000" y="333360"/>
            <a:ext cx="15127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39640" y="6237360"/>
            <a:ext cx="540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IVL Plenary 2006, Lausa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4417-A854-49B9-AA71-18E2CD5C97C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12720" cy="977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5000" spc="-1" strike="noStrike">
                <a:solidFill>
                  <a:srgbClr val="006633"/>
                </a:solidFill>
                <a:latin typeface="Garamond"/>
              </a:rPr>
              <a:t>CIVL Competition Software and database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Agust Gudmund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Vice-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800" spc="-1" strike="noStrike">
                <a:solidFill>
                  <a:srgbClr val="000000"/>
                </a:solidFill>
                <a:latin typeface="Arial"/>
              </a:rPr>
              <a:t>Chairman of the Softwar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Internet and lo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modules available at the intern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modules also standalone Windows Cli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ata transfer to and from the CIVL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or CIVL faster and more accurate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rganiz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REE competition software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Get data from CIVL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Easy delivery of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ccurate personal data (like spelling of nam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Online regist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ore information on results and WP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Time and mone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Timeframe (int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atabase ** Version 1.0 almost Ready N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Competitions, pilots, WPRS,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ro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ccuracy ** The aim is for beginning of M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XC **Before year end (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Budget is to make sure the project will not stop because of money shortage.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Hopefully it will not all be used. </a:t>
            </a:r>
            <a:br>
              <a:rPr sz="2600"/>
            </a:b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One year worth of Sanction fe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urrent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- pilot ranking  (on CIVL we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ce 2003 –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any flight verification systems (gp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G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Many other systems (some fre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Other systems (online registration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New software projec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WPRS – pilot ran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ompetition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Scoring (all disciplin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eb client if Internet connection i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Windows client for standalone 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Data is transferred from CIVL competi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</a:rPr>
              <a:t>Results returned to the CIV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For all CIVL disciplines</a:t>
            </a: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	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1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2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Class 5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Hang gliding Aerobat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X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ccur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aragliding Aerobatic (solo and syncr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3000" spc="-1" strike="noStrike">
                <a:solidFill>
                  <a:srgbClr val="000000"/>
                </a:solidFill>
                <a:latin typeface="Arial"/>
              </a:rPr>
              <a:t>Different needs for tasks/scoring/WP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IVL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 database (register even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ay sanction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Results data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as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Scores of every t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All trackl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200" spc="-1" strike="noStrike">
                <a:solidFill>
                  <a:srgbClr val="000000"/>
                </a:solidFill>
                <a:latin typeface="Arial"/>
              </a:rPr>
              <a:t>Total sc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List of competition of every plil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Pilots databa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have unique 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pilots 2001-2005 already regist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and update own personal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Pilots can register for compet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Competi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egister a compet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utomatic Competition Calend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participants (already in the databa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Create ta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o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task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splay competition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dd competition to WPRS </a:t>
            </a: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(and CIVL datab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Ran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ll disciplines (and fema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Different WPRS formulas for each discipl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Ranking updated regular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More information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Compet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Pilo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Tasks and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WPRS (with backward histor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200" spc="-1" strike="noStrike">
                <a:solidFill>
                  <a:srgbClr val="006633"/>
                </a:solidFill>
                <a:latin typeface="Garamond"/>
              </a:rPr>
              <a:t>Scoring for all discipl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curacy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Acrobati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3000" spc="-1" strike="noStrike">
                <a:solidFill>
                  <a:srgbClr val="000000"/>
                </a:solidFill>
                <a:latin typeface="Arial"/>
              </a:rPr>
              <a:t>XC sc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Flight verif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600" spc="-1" strike="noStrike">
                <a:solidFill>
                  <a:srgbClr val="000000"/>
                </a:solidFill>
                <a:latin typeface="Arial"/>
              </a:rPr>
              <a:t>Different scoring formul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0:30:12Z</dcterms:created>
  <dc:creator>ag</dc:creator>
  <dc:description/>
  <dc:language>en-US</dc:language>
  <cp:lastModifiedBy>ag</cp:lastModifiedBy>
  <dcterms:modified xsi:type="dcterms:W3CDTF">2006-02-11T10:45:48Z</dcterms:modified>
  <cp:revision>15</cp:revision>
  <dc:subject/>
  <dc:title>CIVL Competition Software </dc:title>
</cp:coreProperties>
</file>