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A1C9-7557-408A-8CD7-4E827C67052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6343-8DE9-47DD-8596-51A858CD26F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C3E4-A852-4031-9497-1163658AB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6379-5E27-44D3-B95E-A0E44278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8F7C-198C-4E0D-9548-5442DB115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D8C1-6BCD-4C44-BFCF-D1E4AA1DF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65F1-7612-4C91-A6AE-E785927B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1A31-8C0D-4754-A711-3A039484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71CC-62D2-4D58-9151-5C236F7E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0EEB-4F8F-49A7-ACB8-8011B898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D3B2-3359-4748-AC25-667E4527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E792-74F9-467F-AA1B-12414097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345F-E087-4D30-8761-9432976B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D4D3-BCF6-4218-A88C-F646BF7A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EF7E-ADD6-47DC-BE8F-91A1D26CCD0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Overview DZ new 300912"/>
          <p:cNvPicPr/>
          <p:nvPr/>
        </p:nvPicPr>
        <p:blipFill>
          <a:blip r:embed="rId1"/>
          <a:stretch/>
        </p:blipFill>
        <p:spPr>
          <a:xfrm>
            <a:off x="1703520" y="0"/>
            <a:ext cx="7440480" cy="68454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-87120" y="2860560"/>
            <a:ext cx="190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ition Sites new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dial 2012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Logo Mondial 2012 new"/>
          <p:cNvPicPr/>
          <p:nvPr/>
        </p:nvPicPr>
        <p:blipFill>
          <a:blip r:embed="rId2"/>
          <a:stretch/>
        </p:blipFill>
        <p:spPr>
          <a:xfrm>
            <a:off x="76320" y="214200"/>
            <a:ext cx="1616040" cy="838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Logo Mondial 2012 new"/>
          <p:cNvPicPr/>
          <p:nvPr/>
        </p:nvPicPr>
        <p:blipFill>
          <a:blip r:embed="rId3"/>
          <a:stretch/>
        </p:blipFill>
        <p:spPr>
          <a:xfrm>
            <a:off x="60480" y="5398920"/>
            <a:ext cx="1616040" cy="838440"/>
          </a:xfrm>
          <a:prstGeom prst="rect">
            <a:avLst/>
          </a:prstGeom>
          <a:ln w="0">
            <a:noFill/>
          </a:ln>
        </p:spPr>
      </p:pic>
      <p:sp>
        <p:nvSpPr>
          <p:cNvPr id="52" name="Line 13"/>
          <p:cNvSpPr/>
          <p:nvPr/>
        </p:nvSpPr>
        <p:spPr>
          <a:xfrm>
            <a:off x="4135320" y="5284800"/>
            <a:ext cx="4608720" cy="57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 rot="357000">
            <a:off x="5819400" y="5289480"/>
            <a:ext cx="1343520" cy="2764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5,3 km (3,3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6966000" y="5865840"/>
            <a:ext cx="1566720" cy="85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orse Race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anopy Formation/Styl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7326000" y="2557440"/>
            <a:ext cx="15692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dditional D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mation Skydiv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tistic Events/Accurac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8"/>
          <p:cNvSpPr/>
          <p:nvPr/>
        </p:nvSpPr>
        <p:spPr>
          <a:xfrm flipV="1">
            <a:off x="4140360" y="2814480"/>
            <a:ext cx="2952720" cy="24480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 rot="19197600">
            <a:off x="5325120" y="3819240"/>
            <a:ext cx="1343520" cy="2764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5 km (2,8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0"/>
          <p:cNvSpPr/>
          <p:nvPr/>
        </p:nvSpPr>
        <p:spPr>
          <a:xfrm>
            <a:off x="7093080" y="2735280"/>
            <a:ext cx="1655640" cy="30956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7326000" y="3743280"/>
            <a:ext cx="1343520" cy="2764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0 km (2,5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2"/>
          <p:cNvSpPr/>
          <p:nvPr/>
        </p:nvSpPr>
        <p:spPr>
          <a:xfrm>
            <a:off x="1770120" y="2630520"/>
            <a:ext cx="5249880" cy="198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3628800" y="2708280"/>
            <a:ext cx="1343520" cy="2764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6,0 km (3,7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6"/>
          <p:cNvSpPr/>
          <p:nvPr/>
        </p:nvSpPr>
        <p:spPr>
          <a:xfrm rot="2086800">
            <a:off x="7048080" y="2459160"/>
            <a:ext cx="21600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5"/>
          <p:cNvSpPr/>
          <p:nvPr/>
        </p:nvSpPr>
        <p:spPr>
          <a:xfrm flipH="1" flipV="1">
            <a:off x="1763280" y="2636640"/>
            <a:ext cx="2373480" cy="26031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1790640" y="1878120"/>
            <a:ext cx="17780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alm Jumeira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mation Skydiving/Artis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2068200" y="3782880"/>
            <a:ext cx="1343520" cy="2764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0 km (2,5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8"/>
          <p:cNvSpPr/>
          <p:nvPr/>
        </p:nvSpPr>
        <p:spPr>
          <a:xfrm>
            <a:off x="2410560" y="5553000"/>
            <a:ext cx="17276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kydive Dubai DZ 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nding/Canopy Pilot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alm Jumeirah alternate DZs"/>
          <p:cNvPicPr/>
          <p:nvPr/>
        </p:nvPicPr>
        <p:blipFill>
          <a:blip r:embed="rId1"/>
          <a:stretch/>
        </p:blipFill>
        <p:spPr>
          <a:xfrm>
            <a:off x="1711440" y="22320"/>
            <a:ext cx="7397640" cy="6805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8" name="Line 3"/>
          <p:cNvSpPr/>
          <p:nvPr/>
        </p:nvSpPr>
        <p:spPr>
          <a:xfrm flipH="1">
            <a:off x="4859280" y="2578320"/>
            <a:ext cx="406800" cy="2380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 flipV="1">
            <a:off x="4311720" y="2790720"/>
            <a:ext cx="1320840" cy="208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"/>
          <p:cNvSpPr/>
          <p:nvPr/>
        </p:nvSpPr>
        <p:spPr>
          <a:xfrm rot="604800">
            <a:off x="1953720" y="2220840"/>
            <a:ext cx="414360" cy="103356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 rot="16666800">
            <a:off x="1705320" y="262080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DZ FS/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-7920" y="2860560"/>
            <a:ext cx="173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op Zon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tion Skydiv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Logo Mondial 2012 new"/>
          <p:cNvPicPr/>
          <p:nvPr/>
        </p:nvPicPr>
        <p:blipFill>
          <a:blip r:embed="rId2"/>
          <a:stretch/>
        </p:blipFill>
        <p:spPr>
          <a:xfrm>
            <a:off x="38160" y="69840"/>
            <a:ext cx="1616040" cy="838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Logo Mondial 2012 new"/>
          <p:cNvPicPr/>
          <p:nvPr/>
        </p:nvPicPr>
        <p:blipFill>
          <a:blip r:embed="rId3"/>
          <a:stretch/>
        </p:blipFill>
        <p:spPr>
          <a:xfrm>
            <a:off x="31680" y="5830920"/>
            <a:ext cx="16160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DZ Option C close look"/>
          <p:cNvPicPr/>
          <p:nvPr/>
        </p:nvPicPr>
        <p:blipFill>
          <a:blip r:embed="rId1"/>
          <a:stretch/>
        </p:blipFill>
        <p:spPr>
          <a:xfrm>
            <a:off x="1728720" y="31680"/>
            <a:ext cx="7380360" cy="67899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-7920" y="2860560"/>
            <a:ext cx="173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op Zon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tion Skydiv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Logo Mondial 2012 new"/>
          <p:cNvPicPr/>
          <p:nvPr/>
        </p:nvPicPr>
        <p:blipFill>
          <a:blip r:embed="rId2"/>
          <a:stretch/>
        </p:blipFill>
        <p:spPr>
          <a:xfrm>
            <a:off x="38160" y="171360"/>
            <a:ext cx="1616040" cy="8384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 rot="271800">
            <a:off x="2814480" y="1811160"/>
            <a:ext cx="1150920" cy="316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 rot="16483800">
            <a:off x="2630880" y="3098520"/>
            <a:ext cx="144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ding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Logo Mondial 2012 new"/>
          <p:cNvPicPr/>
          <p:nvPr/>
        </p:nvPicPr>
        <p:blipFill>
          <a:blip r:embed="rId3"/>
          <a:stretch/>
        </p:blipFill>
        <p:spPr>
          <a:xfrm>
            <a:off x="34920" y="5686560"/>
            <a:ext cx="1616040" cy="838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MCj03971160000[1]"/>
          <p:cNvPicPr/>
          <p:nvPr/>
        </p:nvPicPr>
        <p:blipFill>
          <a:blip r:embed="rId4"/>
          <a:stretch/>
        </p:blipFill>
        <p:spPr>
          <a:xfrm>
            <a:off x="4427640" y="3105000"/>
            <a:ext cx="380880" cy="395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MCj03971160000[1]"/>
          <p:cNvPicPr/>
          <p:nvPr/>
        </p:nvPicPr>
        <p:blipFill>
          <a:blip r:embed="rId5"/>
          <a:stretch/>
        </p:blipFill>
        <p:spPr>
          <a:xfrm>
            <a:off x="2050920" y="1989000"/>
            <a:ext cx="381240" cy="395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MCj03971160000[1]"/>
          <p:cNvPicPr/>
          <p:nvPr/>
        </p:nvPicPr>
        <p:blipFill>
          <a:blip r:embed="rId6"/>
          <a:stretch/>
        </p:blipFill>
        <p:spPr>
          <a:xfrm>
            <a:off x="1908000" y="4005360"/>
            <a:ext cx="381240" cy="395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4211640" y="355140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 rot="16414800">
            <a:off x="1619640" y="292284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Alternate DZ FS-AE"/>
          <p:cNvPicPr/>
          <p:nvPr/>
        </p:nvPicPr>
        <p:blipFill>
          <a:blip r:embed="rId1"/>
          <a:stretch/>
        </p:blipFill>
        <p:spPr>
          <a:xfrm>
            <a:off x="1893960" y="0"/>
            <a:ext cx="7250040" cy="6821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Logo Mondial 2012 new"/>
          <p:cNvPicPr/>
          <p:nvPr/>
        </p:nvPicPr>
        <p:blipFill>
          <a:blip r:embed="rId2"/>
          <a:stretch/>
        </p:blipFill>
        <p:spPr>
          <a:xfrm>
            <a:off x="76320" y="214200"/>
            <a:ext cx="1616040" cy="838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Logo Mondial 2012 new"/>
          <p:cNvPicPr/>
          <p:nvPr/>
        </p:nvPicPr>
        <p:blipFill>
          <a:blip r:embed="rId3"/>
          <a:stretch/>
        </p:blipFill>
        <p:spPr>
          <a:xfrm>
            <a:off x="66600" y="5543640"/>
            <a:ext cx="1616040" cy="838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-26640" y="2031840"/>
            <a:ext cx="1732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itional Drop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dial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mation Skydiving 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 rot="2455200">
            <a:off x="6516720" y="2997000"/>
            <a:ext cx="1008000" cy="15127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 rot="18775800">
            <a:off x="6333120" y="350964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nding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MCj03971160000[1]"/>
          <p:cNvPicPr/>
          <p:nvPr/>
        </p:nvPicPr>
        <p:blipFill>
          <a:blip r:embed="rId4"/>
          <a:stretch/>
        </p:blipFill>
        <p:spPr>
          <a:xfrm>
            <a:off x="5859360" y="3105000"/>
            <a:ext cx="381240" cy="395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5643000" y="280656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MCj03971160000[1]"/>
          <p:cNvPicPr/>
          <p:nvPr/>
        </p:nvPicPr>
        <p:blipFill>
          <a:blip r:embed="rId5"/>
          <a:stretch/>
        </p:blipFill>
        <p:spPr>
          <a:xfrm>
            <a:off x="6423120" y="2492280"/>
            <a:ext cx="3808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3:40:15Z</dcterms:created>
  <dc:creator>H. Schlecht</dc:creator>
  <dc:description/>
  <dc:language>en-US</dc:language>
  <cp:lastModifiedBy>Liam</cp:lastModifiedBy>
  <dcterms:modified xsi:type="dcterms:W3CDTF">2012-10-24T10:18:25Z</dcterms:modified>
  <cp:revision>10</cp:revision>
  <dc:subject/>
  <dc:title>Folie 1</dc:title>
</cp:coreProperties>
</file>