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wmf" ContentType="image/x-wmf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96F3D-63D3-43FB-A35A-6CBB00DC8CB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00478-A552-45D7-B79B-980CC9203CE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C259-BDE3-4C8E-B1EA-B058A9F6C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82A6-18C1-4FE3-9D16-968E618B0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9D25-AB08-401C-8ACD-22D384E58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F500-2B54-437A-88AA-1FEA05964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0C48-432C-43C9-B669-8E3EB43FA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298C-18D8-47A3-85A2-DF0E06C7F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E8B2-1A44-4050-B7F7-2AD8B5821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1099-BCFA-4EDB-A24F-9C720C173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694C-C1A8-4698-AF9F-A24954582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3A6F-9B35-4800-8290-0279B7B6C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E1B9-01C3-4FCF-9F4A-517F3D800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13C1-CBDD-4C22-9C23-D08097570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666E4-733B-48EB-B793-2AFBF7A0C4A7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Overview DZ new 300912"/>
          <p:cNvPicPr/>
          <p:nvPr/>
        </p:nvPicPr>
        <p:blipFill>
          <a:blip r:embed="rId1"/>
          <a:stretch/>
        </p:blipFill>
        <p:spPr>
          <a:xfrm>
            <a:off x="1703520" y="0"/>
            <a:ext cx="7440480" cy="68454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-87120" y="2860560"/>
            <a:ext cx="1902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petition Sites new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ndial 2012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Logo Mondial 2012 new"/>
          <p:cNvPicPr/>
          <p:nvPr/>
        </p:nvPicPr>
        <p:blipFill>
          <a:blip r:embed="rId2"/>
          <a:stretch/>
        </p:blipFill>
        <p:spPr>
          <a:xfrm>
            <a:off x="76320" y="214200"/>
            <a:ext cx="1616040" cy="838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Logo Mondial 2012 new"/>
          <p:cNvPicPr/>
          <p:nvPr/>
        </p:nvPicPr>
        <p:blipFill>
          <a:blip r:embed="rId3"/>
          <a:stretch/>
        </p:blipFill>
        <p:spPr>
          <a:xfrm>
            <a:off x="60480" y="5398920"/>
            <a:ext cx="1616040" cy="838440"/>
          </a:xfrm>
          <a:prstGeom prst="rect">
            <a:avLst/>
          </a:prstGeom>
          <a:ln w="0">
            <a:noFill/>
          </a:ln>
        </p:spPr>
      </p:pic>
      <p:sp>
        <p:nvSpPr>
          <p:cNvPr id="52" name="Line 13"/>
          <p:cNvSpPr/>
          <p:nvPr/>
        </p:nvSpPr>
        <p:spPr>
          <a:xfrm>
            <a:off x="4135320" y="5284800"/>
            <a:ext cx="4608720" cy="576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4"/>
          <p:cNvSpPr/>
          <p:nvPr/>
        </p:nvSpPr>
        <p:spPr>
          <a:xfrm rot="357000">
            <a:off x="5819400" y="5289480"/>
            <a:ext cx="1343520" cy="27648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Times New Roman"/>
              </a:rPr>
              <a:t>5,3 km (3,3 Mi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5"/>
          <p:cNvSpPr/>
          <p:nvPr/>
        </p:nvSpPr>
        <p:spPr>
          <a:xfrm>
            <a:off x="6966000" y="5865840"/>
            <a:ext cx="1566720" cy="855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Horse Race“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anopy Formation/Style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ccura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7"/>
          <p:cNvSpPr/>
          <p:nvPr/>
        </p:nvSpPr>
        <p:spPr>
          <a:xfrm>
            <a:off x="7326000" y="2557440"/>
            <a:ext cx="1569240" cy="55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dditional D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ormation Skydiv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rtistic Events/Accurac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8"/>
          <p:cNvSpPr/>
          <p:nvPr/>
        </p:nvSpPr>
        <p:spPr>
          <a:xfrm flipV="1">
            <a:off x="4140360" y="2814480"/>
            <a:ext cx="2952720" cy="244800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9"/>
          <p:cNvSpPr/>
          <p:nvPr/>
        </p:nvSpPr>
        <p:spPr>
          <a:xfrm rot="19197600">
            <a:off x="5325120" y="3819240"/>
            <a:ext cx="1343520" cy="27648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Times New Roman"/>
              </a:rPr>
              <a:t>4,5 km (2,8 Mi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20"/>
          <p:cNvSpPr/>
          <p:nvPr/>
        </p:nvSpPr>
        <p:spPr>
          <a:xfrm>
            <a:off x="7093080" y="2735280"/>
            <a:ext cx="1655640" cy="309564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1"/>
          <p:cNvSpPr/>
          <p:nvPr/>
        </p:nvSpPr>
        <p:spPr>
          <a:xfrm>
            <a:off x="7326000" y="3743280"/>
            <a:ext cx="1343520" cy="2764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Times New Roman"/>
              </a:rPr>
              <a:t>4,0 km (2,5 Mi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22"/>
          <p:cNvSpPr/>
          <p:nvPr/>
        </p:nvSpPr>
        <p:spPr>
          <a:xfrm>
            <a:off x="1770120" y="2630520"/>
            <a:ext cx="5249880" cy="1983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3"/>
          <p:cNvSpPr/>
          <p:nvPr/>
        </p:nvSpPr>
        <p:spPr>
          <a:xfrm>
            <a:off x="3628800" y="2708280"/>
            <a:ext cx="1343520" cy="276480"/>
          </a:xfrm>
          <a:prstGeom prst="rect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Times New Roman"/>
              </a:rPr>
              <a:t>6,0 km (3,7 Mi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16"/>
          <p:cNvSpPr/>
          <p:nvPr/>
        </p:nvSpPr>
        <p:spPr>
          <a:xfrm rot="2086800">
            <a:off x="7048080" y="2459160"/>
            <a:ext cx="216000" cy="503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5"/>
          <p:cNvSpPr/>
          <p:nvPr/>
        </p:nvSpPr>
        <p:spPr>
          <a:xfrm flipH="1" flipV="1">
            <a:off x="1763280" y="2636640"/>
            <a:ext cx="2373480" cy="260316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6"/>
          <p:cNvSpPr/>
          <p:nvPr/>
        </p:nvSpPr>
        <p:spPr>
          <a:xfrm>
            <a:off x="1790640" y="1878120"/>
            <a:ext cx="1778040" cy="55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alm Jumeira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ormation Skydiving/Artist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v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7"/>
          <p:cNvSpPr/>
          <p:nvPr/>
        </p:nvSpPr>
        <p:spPr>
          <a:xfrm>
            <a:off x="2068200" y="3782880"/>
            <a:ext cx="1343520" cy="276480"/>
          </a:xfrm>
          <a:prstGeom prst="rect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Times New Roman"/>
              </a:rPr>
              <a:t>4,0 km (2,5 Mi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8"/>
          <p:cNvSpPr/>
          <p:nvPr/>
        </p:nvSpPr>
        <p:spPr>
          <a:xfrm>
            <a:off x="2410560" y="5553000"/>
            <a:ext cx="17276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kydive Dubai DZ Accura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Landing/Canopy Pilot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Palm Jumeirah alternate DZs"/>
          <p:cNvPicPr/>
          <p:nvPr/>
        </p:nvPicPr>
        <p:blipFill>
          <a:blip r:embed="rId1"/>
          <a:stretch/>
        </p:blipFill>
        <p:spPr>
          <a:xfrm>
            <a:off x="1711440" y="22320"/>
            <a:ext cx="7397640" cy="68054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68" name="Line 3"/>
          <p:cNvSpPr/>
          <p:nvPr/>
        </p:nvSpPr>
        <p:spPr>
          <a:xfrm flipH="1">
            <a:off x="4859280" y="2578320"/>
            <a:ext cx="406800" cy="2380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4"/>
          <p:cNvSpPr/>
          <p:nvPr/>
        </p:nvSpPr>
        <p:spPr>
          <a:xfrm flipV="1">
            <a:off x="4311720" y="2790720"/>
            <a:ext cx="1320840" cy="20844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5"/>
          <p:cNvSpPr/>
          <p:nvPr/>
        </p:nvSpPr>
        <p:spPr>
          <a:xfrm rot="604800">
            <a:off x="1953720" y="2220840"/>
            <a:ext cx="414360" cy="1033560"/>
          </a:xfrm>
          <a:prstGeom prst="octagon">
            <a:avLst>
              <a:gd name="adj" fmla="val 29287"/>
            </a:avLst>
          </a:prstGeom>
          <a:noFill/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6"/>
          <p:cNvSpPr/>
          <p:nvPr/>
        </p:nvSpPr>
        <p:spPr>
          <a:xfrm rot="16666800">
            <a:off x="1705320" y="262080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00"/>
                </a:solidFill>
                <a:latin typeface="Arial"/>
              </a:rPr>
              <a:t>DZ FS/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-7920" y="2860560"/>
            <a:ext cx="1733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rop Zone n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rmation Skydiv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tistic Ev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8" descr="Logo Mondial 2012 new"/>
          <p:cNvPicPr/>
          <p:nvPr/>
        </p:nvPicPr>
        <p:blipFill>
          <a:blip r:embed="rId2"/>
          <a:stretch/>
        </p:blipFill>
        <p:spPr>
          <a:xfrm>
            <a:off x="38160" y="69840"/>
            <a:ext cx="1616040" cy="8380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Logo Mondial 2012 new"/>
          <p:cNvPicPr/>
          <p:nvPr/>
        </p:nvPicPr>
        <p:blipFill>
          <a:blip r:embed="rId3"/>
          <a:stretch/>
        </p:blipFill>
        <p:spPr>
          <a:xfrm>
            <a:off x="31680" y="5830920"/>
            <a:ext cx="161604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DZ Option C close look"/>
          <p:cNvPicPr/>
          <p:nvPr/>
        </p:nvPicPr>
        <p:blipFill>
          <a:blip r:embed="rId1"/>
          <a:stretch/>
        </p:blipFill>
        <p:spPr>
          <a:xfrm>
            <a:off x="1728720" y="31680"/>
            <a:ext cx="7380360" cy="6789960"/>
          </a:xfrm>
          <a:prstGeom prst="rect">
            <a:avLst/>
          </a:prstGeom>
          <a:ln w="0">
            <a:noFill/>
          </a:ln>
        </p:spPr>
      </p:pic>
      <p:sp>
        <p:nvSpPr>
          <p:cNvPr id="76" name="Text Box 3"/>
          <p:cNvSpPr/>
          <p:nvPr/>
        </p:nvSpPr>
        <p:spPr>
          <a:xfrm>
            <a:off x="-7920" y="2860560"/>
            <a:ext cx="1733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rop Zone n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rmation Skydiv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tistic Ev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Logo Mondial 2012 new"/>
          <p:cNvPicPr/>
          <p:nvPr/>
        </p:nvPicPr>
        <p:blipFill>
          <a:blip r:embed="rId2"/>
          <a:stretch/>
        </p:blipFill>
        <p:spPr>
          <a:xfrm>
            <a:off x="38160" y="171360"/>
            <a:ext cx="1616040" cy="83844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5"/>
          <p:cNvSpPr/>
          <p:nvPr/>
        </p:nvSpPr>
        <p:spPr>
          <a:xfrm rot="271800">
            <a:off x="2814480" y="1811160"/>
            <a:ext cx="1150920" cy="3168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"/>
          <p:cNvSpPr/>
          <p:nvPr/>
        </p:nvSpPr>
        <p:spPr>
          <a:xfrm rot="16483800">
            <a:off x="2630880" y="3098520"/>
            <a:ext cx="144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nding ar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7" descr="Logo Mondial 2012 new"/>
          <p:cNvPicPr/>
          <p:nvPr/>
        </p:nvPicPr>
        <p:blipFill>
          <a:blip r:embed="rId3"/>
          <a:stretch/>
        </p:blipFill>
        <p:spPr>
          <a:xfrm>
            <a:off x="34920" y="5686560"/>
            <a:ext cx="1616040" cy="8380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8" descr="MCj03971160000[1]"/>
          <p:cNvPicPr/>
          <p:nvPr/>
        </p:nvPicPr>
        <p:blipFill>
          <a:blip r:embed="rId4"/>
          <a:stretch/>
        </p:blipFill>
        <p:spPr>
          <a:xfrm>
            <a:off x="4427640" y="3105000"/>
            <a:ext cx="380880" cy="3952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9" descr="MCj03971160000[1]"/>
          <p:cNvPicPr/>
          <p:nvPr/>
        </p:nvPicPr>
        <p:blipFill>
          <a:blip r:embed="rId5"/>
          <a:stretch/>
        </p:blipFill>
        <p:spPr>
          <a:xfrm>
            <a:off x="2050920" y="1989000"/>
            <a:ext cx="381240" cy="3952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0" descr="MCj03971160000[1]"/>
          <p:cNvPicPr/>
          <p:nvPr/>
        </p:nvPicPr>
        <p:blipFill>
          <a:blip r:embed="rId6"/>
          <a:stretch/>
        </p:blipFill>
        <p:spPr>
          <a:xfrm>
            <a:off x="1908000" y="4005360"/>
            <a:ext cx="381240" cy="395280"/>
          </a:xfrm>
          <a:prstGeom prst="rect">
            <a:avLst/>
          </a:prstGeom>
          <a:ln w="0">
            <a:noFill/>
          </a:ln>
        </p:spPr>
      </p:pic>
      <p:sp>
        <p:nvSpPr>
          <p:cNvPr id="84" name="Text Box 11"/>
          <p:cNvSpPr/>
          <p:nvPr/>
        </p:nvSpPr>
        <p:spPr>
          <a:xfrm>
            <a:off x="4211640" y="3551400"/>
            <a:ext cx="108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00"/>
                </a:solidFill>
                <a:latin typeface="Arial"/>
                <a:ea typeface="Arial"/>
              </a:rPr>
              <a:t>Rescue bo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2"/>
          <p:cNvSpPr/>
          <p:nvPr/>
        </p:nvSpPr>
        <p:spPr>
          <a:xfrm rot="16414800">
            <a:off x="1619640" y="2922840"/>
            <a:ext cx="117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  <a:ea typeface="Arial"/>
              </a:rPr>
              <a:t>Rescue bo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Alternate DZ FS-AE"/>
          <p:cNvPicPr/>
          <p:nvPr/>
        </p:nvPicPr>
        <p:blipFill>
          <a:blip r:embed="rId1"/>
          <a:stretch/>
        </p:blipFill>
        <p:spPr>
          <a:xfrm>
            <a:off x="1893960" y="0"/>
            <a:ext cx="7250040" cy="6821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Logo Mondial 2012 new"/>
          <p:cNvPicPr/>
          <p:nvPr/>
        </p:nvPicPr>
        <p:blipFill>
          <a:blip r:embed="rId2"/>
          <a:stretch/>
        </p:blipFill>
        <p:spPr>
          <a:xfrm>
            <a:off x="76320" y="214200"/>
            <a:ext cx="1616040" cy="8384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Logo Mondial 2012 new"/>
          <p:cNvPicPr/>
          <p:nvPr/>
        </p:nvPicPr>
        <p:blipFill>
          <a:blip r:embed="rId3"/>
          <a:stretch/>
        </p:blipFill>
        <p:spPr>
          <a:xfrm>
            <a:off x="66600" y="5543640"/>
            <a:ext cx="1616040" cy="83808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-26640" y="2031840"/>
            <a:ext cx="17323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dditional Drop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dial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ormation Skydiving &amp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rtistic Ev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6"/>
          <p:cNvSpPr/>
          <p:nvPr/>
        </p:nvSpPr>
        <p:spPr>
          <a:xfrm rot="2455200">
            <a:off x="6516720" y="2997000"/>
            <a:ext cx="1008000" cy="151272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7"/>
          <p:cNvSpPr/>
          <p:nvPr/>
        </p:nvSpPr>
        <p:spPr>
          <a:xfrm rot="18775800">
            <a:off x="6333120" y="3509640"/>
            <a:ext cx="128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anding are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8" descr="MCj03971160000[1]"/>
          <p:cNvPicPr/>
          <p:nvPr/>
        </p:nvPicPr>
        <p:blipFill>
          <a:blip r:embed="rId4"/>
          <a:stretch/>
        </p:blipFill>
        <p:spPr>
          <a:xfrm>
            <a:off x="5859360" y="3105000"/>
            <a:ext cx="381240" cy="395280"/>
          </a:xfrm>
          <a:prstGeom prst="rect">
            <a:avLst/>
          </a:prstGeom>
          <a:ln w="0">
            <a:noFill/>
          </a:ln>
        </p:spPr>
      </p:pic>
      <p:sp>
        <p:nvSpPr>
          <p:cNvPr id="93" name="Text Box 9"/>
          <p:cNvSpPr/>
          <p:nvPr/>
        </p:nvSpPr>
        <p:spPr>
          <a:xfrm>
            <a:off x="5643000" y="2806560"/>
            <a:ext cx="117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  <a:ea typeface="Arial"/>
              </a:rPr>
              <a:t>Rescue bo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0" descr="MCj03971160000[1]"/>
          <p:cNvPicPr/>
          <p:nvPr/>
        </p:nvPicPr>
        <p:blipFill>
          <a:blip r:embed="rId5"/>
          <a:stretch/>
        </p:blipFill>
        <p:spPr>
          <a:xfrm>
            <a:off x="6423120" y="2492280"/>
            <a:ext cx="380880" cy="3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30T13:40:15Z</dcterms:created>
  <dc:creator>H. Schlecht</dc:creator>
  <dc:description/>
  <dc:language>en-US</dc:language>
  <cp:lastModifiedBy>Liam</cp:lastModifiedBy>
  <dcterms:modified xsi:type="dcterms:W3CDTF">2012-10-24T10:18:25Z</dcterms:modified>
  <cp:revision>10</cp:revision>
  <dc:subject/>
  <dc:title>Folie 1</dc:title>
</cp:coreProperties>
</file>