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902C7-1E7E-44A4-8B84-3E1B76A883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8D43-047F-484E-9103-46FA7BE32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950A-164B-42DC-8C16-4A8F6BCAE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C26A-8903-42C4-AA6A-682952E40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0E75-766A-4857-B1DE-F8856F8B6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4433D0-A318-438A-BA88-FD4F53CD7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D838E3-ECF4-48C4-9A1D-972736C8B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B8E1B9-F70B-4F0F-A04A-16C85F811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5026A4-16F2-4D5F-88F7-A2F75EF4B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744544-573A-4189-B2DF-9B93BB61D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A74324-0C9A-49A0-9391-6AD2279D2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D0EC45-6A34-410E-AB61-FEBA73E3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9117-E87F-4C6C-8E12-288D74201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293FD6-4B40-41A3-BC5B-C8AB776E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32ACDB-8432-405B-BE66-664C3D45C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462878-A16D-4C24-94A7-B5289DC85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20ACFE-7345-4D05-B03B-E0806E650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261008-F509-49B9-921B-570B55BEA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69E6-1433-4D65-A660-3A851240D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08D8-CC0C-4BDB-AB3E-7B68B47CB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7121-259A-4B1A-B1FB-B1F4E090A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480D-5923-4B02-A018-0F5E9A503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7983-43DA-4C93-ACAA-E7C5D8A7E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3381-3EF8-43EC-8EA8-3350AA09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20C6-8420-451A-A6BA-DF7221E4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31573-2089-47CE-AC0F-CB4A7058D0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41BD0-D398-487A-B439-D30C5F8FE4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TECHNICAL &amp; SAFETY COMMITTE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99640" y="3886200"/>
            <a:ext cx="7559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International Parachuting Commiss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IE" sz="4800" spc="-1" strike="noStrike">
                <a:solidFill>
                  <a:srgbClr val="ffffff"/>
                </a:solidFill>
                <a:latin typeface="Arial"/>
              </a:rPr>
              <a:t>2002 Safety Repor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 33 responding count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73 people were killed skydiv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5,769,010 skydives were made b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357,155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79,028 jum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4,893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68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68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400" spc="-1" strike="noStrike">
                <a:solidFill>
                  <a:srgbClr val="ffffff"/>
                </a:solidFill>
                <a:latin typeface="Arial"/>
              </a:rPr>
              <a:t>73 Fatalitie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5 Studen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29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 0-25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4 Interm.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25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44 Exper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46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Cutaway/No or low reserve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     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     5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68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68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Other ‘ Fatalities (55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8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Other Landing Errors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Main/Reserve Entanglement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Canopy Collision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Jumper walking into Propellor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Jumpers striking aircraft in air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Aircraft crash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Unknown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Fatalities – Largest Group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36640"/>
            <a:ext cx="822960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3% Fast Canop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9% Other Landing Err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6% No or Low Activation of Main 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IE" sz="4800" spc="-1" strike="noStrike">
                <a:solidFill>
                  <a:srgbClr val="ffffff"/>
                </a:solidFill>
                <a:latin typeface="Arial"/>
              </a:rPr>
              <a:t>Some Significant Figur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94% of 65 fatalities (8 were discounted for this statistic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60% of 65 fatalities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23% of fatalities might have been avoided by AAD u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90% of fatalities would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8 of the 73 Fatalities were First Jump Stud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creased use of A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Round Main Canopies being used l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Big movement towards Tandem jump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DISTRIBUTION OF REPOR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Report, along with 2002 AAD Report, has been sent by e-mail to all respondents and to all other countries for which we have e-mail addresses.  Hard copies and CDs are now available for delega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Some Tren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4-12-21T22:32:57Z</dcterms:modified>
  <cp:revision>14</cp:revision>
  <dc:subject/>
  <dc:title>SAFETY &amp; TRAINING FORUM 25 January 2003</dc:title>
</cp:coreProperties>
</file>