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E571-8053-490A-8225-E3B729F1A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3FBB-9F60-41BD-B2C4-58FB59117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EB94-ECB3-420E-9989-A051FC904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B9B7-A3CE-420B-B2C7-29FC716C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435C-AE4B-4CE6-BC17-48FAC5397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5E84-231D-44AF-B04B-922AC1A61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A7A6-3B00-42C0-879E-E3E2C8A1E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B8DB-73A3-4332-85D4-18F84137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54A6-B4A3-4EDD-9BAB-4CD79687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9B4E-A57D-41BF-AE22-AAD4DC04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E6D0-4B16-4543-B6E5-9159B055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FE45-E497-4F68-B8B5-704CB35B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A606-5FEF-4991-83EE-45353247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6D53-E9BD-4138-89F1-E8627068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43B67-C6C2-4B80-B7AE-81D1FADA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3E34-72A8-409A-B981-30F77ACE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31158-6DDE-4400-8E7A-8F89D49D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0276-C8FE-4C9E-9DC9-0FAE95B44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29A3-3897-49A6-8E9D-3B76A0453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5044F-0772-4BBF-9A4C-CEA20DBA2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8ADE2-53D0-4BE2-BF6F-6131AD92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F7EAA-B197-4BD8-9AD4-F0F84DB6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510FB-0F26-4530-AD51-4B159446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72555-FA07-4478-ABF8-17B28EAD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93AE-5418-4222-B90E-5495BEAD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42059-FBA3-40FD-BD93-F3633996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51C59-7EA4-480F-9549-2B247462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3B91E-8683-4718-8315-CF3610C4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79BC5-BC72-45C7-895E-0FCF6DD8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F1B45-B4EF-4233-9E2A-F01B06C7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BD730-93F5-46C3-BE3F-22D3BC803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BE21A-9AD2-4962-98C6-8C05BC228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98117-64EE-40FD-96A5-46CD19FF8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3E7D1-D145-44D0-B298-94131108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4B975-2328-41BE-A540-F8E1E397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919F-1090-458A-AA6D-8199DCBC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30430-C019-45D5-BBF0-46BAC691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19DA4-C54F-494F-B753-393BAFE5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97896-F795-484B-9FB2-8F29B76B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0732E-A2BD-43E8-8A79-E1D9C99C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11ED5-DC10-4B8C-83BB-1F155DFC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66AD4-F7C9-4E35-AC3E-E3625451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BBF1D-0F58-47A7-BA2D-D6A29E84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EBCEC-76A3-480C-9781-56FC42E5A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06230-E8C4-4671-9DC6-A5DDAE9B0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F188-306E-42C9-A360-F98F6325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8634-5B84-4078-9D06-A018F7FB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A2EB-4F0A-452F-9CA2-863B045E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D695-57DB-42F8-9B14-F37E1C3C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9BE3-5977-4249-A870-4CF367EC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0E64-A5D3-456A-997D-BCB51EFA028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E78C-78D3-4E6C-A85A-AF8A117C1FA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5467A-6E82-4C9B-839F-C7E904DF53E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2C40-F726-4992-AFCF-5C5D5DBCE23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Form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Notes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3) issued in 2015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4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5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7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4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237,725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14,867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hree Tandem fatalities in 2014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01,20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42,415 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(1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2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1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2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25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6983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 bridle entanglement with camer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lmet after unstable reserve activat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ow radical turn, high impact with water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using lung damage and death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stability, no Main deployment, AAD activate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, freebag caught on jumper, insuffici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ight for reserve deployment, reserve line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rapped under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jumper’s arm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1      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25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6 - 19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s iss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nd Canopy Collision – each a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4 – 13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3 – 10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39% of total fatalities, 3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0 (65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1 (35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6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3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4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39% of 3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640"/>
            <a:ext cx="8229600" cy="33415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75,020 Solo jumps – 1,162,7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3 ; Solo Fatalities 28 (3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6-01-14T20:42:49Z</dcterms:modified>
  <cp:revision>105</cp:revision>
  <dc:subject/>
  <dc:title>SAFETY &amp; TRAINING FORUM 25 January 2003</dc:title>
</cp:coreProperties>
</file>