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BC384-1834-43B2-A9FA-CF97084CB8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F876A-5347-43E2-A9D3-3D04C55C6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13ADF-EECC-4371-B497-BA21F8B80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B2BF9-8C80-447E-A12A-0BFA39185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4F075-22B7-46A1-9533-37ADFF9B3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014B7-5B0E-4231-89B9-43F391D37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DE74D-AA9E-4863-BA5D-FE4163392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307A6-3FDF-4EED-A632-BF3EBE04A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FED33-5D3F-41DE-B33A-BF9E9631A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40142-9F10-4E79-936D-CE3400708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F438B-F986-49D0-B6E9-4091D7B46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883AC-63B8-4CC0-9BF9-BD5438A99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05A8E-DDF9-4F66-8CBB-A62758739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A593A-ED6F-4F95-8D4E-E2E14E8C0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A2BAF-FBAE-4F14-A2A5-E8B050F23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3DB84-0A56-4379-944A-0F6335343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BEF20-1E6A-49D2-9E97-D66372C33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CBAD0-D4D6-4FB2-8BC1-9D160CF19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00981-8F8F-4287-913A-CCDD288E8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196AF-0A9D-4F61-9463-6263311DA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C6E20-5D10-4D12-84C6-158ABE822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9E37B-7573-4980-8219-1E2FC8ADA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312F1-88EE-4D05-8F27-2C853C650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651C3-AEDD-4E83-997A-810787602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E6878-3363-45D1-A25F-7E2E5A001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AA72C-BA2B-42DF-988E-D727C6796A4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E08B7-9012-451A-BB72-4D88DA9A6E7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4.jpeg"/><Relationship Id="rId8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5.png"/><Relationship Id="rId18" Type="http://schemas.openxmlformats.org/officeDocument/2006/relationships/image" Target="../media/image5.png"/><Relationship Id="rId19" Type="http://schemas.openxmlformats.org/officeDocument/2006/relationships/image" Target="../media/image5.png"/><Relationship Id="rId20" Type="http://schemas.openxmlformats.org/officeDocument/2006/relationships/image" Target="../media/image5.png"/><Relationship Id="rId21" Type="http://schemas.openxmlformats.org/officeDocument/2006/relationships/image" Target="../media/image4.jpeg"/><Relationship Id="rId2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26560" y="1844640"/>
            <a:ext cx="81378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ffffff"/>
                </a:solidFill>
                <a:latin typeface="Arial Unicode MS"/>
              </a:rPr>
              <a:t>TECHNICAL &amp; SAFETY COMMITTEE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116000" y="3499920"/>
            <a:ext cx="784872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International Parachuting Commission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FA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6588000" y="476280"/>
            <a:ext cx="1729080" cy="107316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755640" y="549360"/>
            <a:ext cx="3311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71640" y="620280"/>
            <a:ext cx="590544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ffffff"/>
                </a:solidFill>
                <a:latin typeface="Arial Unicode MS"/>
              </a:rPr>
              <a:t>2012 Safety Repor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6920" y="1700280"/>
            <a:ext cx="692964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37 </a:t>
            </a: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countries supplied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5,230,563 skydives were made b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,059,937 jump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 Unicode MS"/>
              </a:rPr>
              <a:t>             </a:t>
            </a:r>
            <a:r>
              <a:rPr b="0" lang="en-IE" sz="2800" spc="-1" strike="noStrike">
                <a:solidFill>
                  <a:srgbClr val="ffffff"/>
                </a:solidFill>
                <a:latin typeface="Arial Unicode MS"/>
              </a:rPr>
              <a:t>53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people were killed skydiv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(these figures include Tandem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 Fatality pe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98,690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jumps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9,999jump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164360" y="620640"/>
            <a:ext cx="1513080" cy="93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460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ffffff"/>
                </a:solidFill>
                <a:latin typeface="Arial Unicode MS"/>
              </a:rPr>
              <a:t>53 Fataliti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042920" y="1988640"/>
            <a:ext cx="76327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1 Student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20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0-25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1 Intermed.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20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26-250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31 Expert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60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251 +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5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Cutaway &amp; Low/No reserve pull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 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No pull/low pull on main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 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Other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4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5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7"/>
          <a:stretch/>
        </p:blipFill>
        <p:spPr>
          <a:xfrm>
            <a:off x="6732720" y="620640"/>
            <a:ext cx="1692000" cy="104004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10920" y="188640"/>
            <a:ext cx="5630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‘</a:t>
            </a: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Other’ Fatalities (41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71640" y="1196640"/>
            <a:ext cx="74232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Fast Canopies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1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Other Landing Errors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Equipment Problems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Tandem Fatalities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            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        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Unexplained jumper incapacity, main deployed, no input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Medical Conditions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Main malfunction, no action, spiralled to ground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Cutaway handle pulled, main released, no reserve pull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Main/reserve entanglement, after AAD fire at fast landing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Main/reserve entanglement after cutaway,  3-ring trapped 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AFF Jump, student limp in harness at 300m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Collision with aircraft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Main cutaway by student at 50m, too low for reserve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Fast spirals to ground, jumper may have been incapacitated  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Flag jump, flag escaped and obscured handles, no pull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Reserve opened incorrectly due to unstable position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Landed in tree, killed during rescue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Drowning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Freefall collision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Main canopy malfunction on landing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IE" sz="1600" spc="-1" strike="noStrike" u="sng">
                <a:solidFill>
                  <a:srgbClr val="ffffff"/>
                </a:solidFill>
                <a:uFillTx/>
                <a:latin typeface="Arial"/>
              </a:rPr>
              <a:t>Total 4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1"/>
          <a:stretch/>
        </p:blipFill>
        <p:spPr>
          <a:xfrm>
            <a:off x="6948360" y="189000"/>
            <a:ext cx="1511280" cy="92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15640" y="980640"/>
            <a:ext cx="583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ffffff"/>
                </a:solidFill>
                <a:latin typeface="Arial Unicode MS"/>
              </a:rPr>
              <a:t>Fatalities – Largest Group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95280" y="2349360"/>
            <a:ext cx="835344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Fast Canopies 10 – 19% of 5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2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Landing Errors  6 – 11% of 5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3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No or Low Main Canopy  Activation  5 – 9% of 5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No or Low Cutaway &amp; Reserve Activ. 5 – 9% of 5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4"/>
          <a:stretch/>
        </p:blipFill>
        <p:spPr>
          <a:xfrm>
            <a:off x="7093080" y="620640"/>
            <a:ext cx="151128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10920" y="54900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ffffff"/>
                </a:solidFill>
                <a:latin typeface="Arial Unicode MS"/>
              </a:rPr>
              <a:t>Significant Figur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68000" y="1918800"/>
            <a:ext cx="8002440" cy="38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39 of the 53 fatalities (74%) appear to have occurred with the parachutist having at least one good parachute on his/her ba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22 of the 53 fatalities (42%) occurred after the successful deployment of the main parachu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1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10 of the 53 fatalities (19%) might have been avoided by AAD 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39 of the 53 fatalities (7%) appear to have been caused by human error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1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5 (9.4%) 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of the 53 Fatalities were First Jump Stud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1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3 ( 5.7%) of the 53 Fatalities were Tandem fataliti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180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7093080" y="476280"/>
            <a:ext cx="1439640" cy="88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ffffff"/>
                </a:solidFill>
                <a:latin typeface="Arial Unicode MS"/>
              </a:rPr>
              <a:t>Some Trends &amp; Issu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971640" y="1989000"/>
            <a:ext cx="741672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here was a very wide range of causes of fatalities in 2012, but the underlying factor appears to have been non-adherence to standard and fundamental practic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High numbers of fatalities, 19 – 36%, resulting from canopy handling and landing issues – a continuing concer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3"/>
          <a:stretch/>
        </p:blipFill>
        <p:spPr>
          <a:xfrm>
            <a:off x="6877080" y="765000"/>
            <a:ext cx="1440000" cy="9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ffffff"/>
                </a:solidFill>
                <a:latin typeface="Arial Unicode MS"/>
              </a:rPr>
              <a:t>Tandem - Sol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4,276,101 Solo jumps – 954,462 Tand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s 18.2% of </a:t>
            </a:r>
            <a:r>
              <a:rPr b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all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jumps, Tandem + Solo jum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s ratio to Solo Jumps - 22.3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The ratio of Tandem to all jumps and to solo jumps is steadily increasing since 200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 Fatalities 3 (5.7%)       Solo Fatalities 50 (94.3%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6877080" y="549360"/>
            <a:ext cx="1440000" cy="9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899640" y="1557000"/>
            <a:ext cx="75438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ffffff"/>
                </a:solidFill>
                <a:uFillTx/>
                <a:latin typeface="Arial"/>
              </a:rPr>
              <a:t>DISTRIBUTION OF REPOR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This Power Point presentation and the full 2012 Safety Report, have been sent by e-mail to all respondents and to all other countries for which there are e-mail addresses.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CDs are available to IPC Delegates and to those who request copies.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ffffff"/>
                </a:solidFill>
                <a:uFillTx/>
                <a:latin typeface="Arial"/>
              </a:rPr>
              <a:t>The CD has the following material 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12 Safety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12 Safety Report Power Point Present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13 Form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13 Notes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Information Notices (5) issued in 2013 by T &amp; S Committe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 u="sng">
                <a:solidFill>
                  <a:srgbClr val="ffffff"/>
                </a:solidFill>
                <a:uFillTx/>
                <a:latin typeface="Arial"/>
              </a:rPr>
              <a:t>APPE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Those countries who did not report for 2012 are requested to make a special effort to do so for 2013.  The compilation of data is to the benefit of the country gathering same,  and t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the worldwide skydiving communit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buSzPct val="24721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7020000" y="765000"/>
            <a:ext cx="1328760" cy="77004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1042920" y="76500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Tahoma"/>
              </a:rPr>
              <a:t>Distribution of Repor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 </cp:lastModifiedBy>
  <dcterms:modified xsi:type="dcterms:W3CDTF">2014-01-22T19:15:56Z</dcterms:modified>
  <cp:revision>66</cp:revision>
  <dc:subject/>
  <dc:title>SAFETY &amp; TRAINING FORUM 25 January 2003</dc:title>
</cp:coreProperties>
</file>