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760C-8D8C-4D24-8B52-B6BC598FA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0BFD-7694-4CBA-8657-C8A05CEEC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C62A-D1C6-4767-BF09-BA122A2FC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1D63-E6D5-4773-9EE0-25E0A2C8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D5D5-F91B-4A8C-8AC1-E87145973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6470-F224-4215-8F46-5474700F9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48E9-C6AA-422F-975E-E11148C98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448E-8023-4A5D-B92C-9E54235A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99CC-D786-4ED4-B6D0-E4982A48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EF52-E378-443F-BE68-AEB5ED40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21E9-9F94-421C-BCBF-32339A17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275C-40EB-4B23-B9A9-50C482AE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484D-679F-4E3A-BE1E-022C0F7B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B87D-2DA0-4C10-B665-7EB93C94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3F1D-56E2-47EE-8617-0B260720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1BA5-DDBC-4F99-B200-281855BD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35F8-BA9E-440F-9E2E-3E4178E2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1B99-9482-4A03-A18C-E096EA250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E7D3-DAAE-4FCA-852F-F07AAC9B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260BB-C290-4C93-8673-489E2E5E5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09B05-9354-4A37-A55C-5A835D1D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D6D89-BC43-4C5D-BCDD-EDCA1F2A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35320-3001-4C6D-9321-663E576A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3D75C-EC07-48F3-9D03-6EA58434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23FC-B7BC-4D73-9BAA-B278CDB7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48907-F3D2-43AA-9E6F-2B0217A9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35E9B-A4FD-46CC-A34D-BB125DBD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5F80F-2493-4CF3-AD96-13B9F2B9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217D4-40F9-47A8-8766-627423EF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20C85-773B-40EE-B4F8-F90279B2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A9FF6-F943-49F2-BD12-4B1436872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E7455-D9D8-4310-B8A1-4C1129A4F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DF82A-432D-414B-8027-F52540F76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00B4F-3645-4407-8EC7-3C7B156F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3F2B2-5367-49D2-B995-2A128240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56A3-FFEA-4EB3-AF98-343749EA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046A6-C696-45D7-AA17-581883A4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A928A-DF20-4E93-B6DB-8526AA96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E56D6-793F-4633-A14E-3077C473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07F20-B614-40AD-9C53-183A243A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E4C20-8BC3-479B-A4BB-6E2F264D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8E200-153D-42E8-A5C0-3DD49140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38B9D-91D4-40D9-BFC5-FA5F5556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03E04-9DDC-4E84-B08D-5FAFFA54D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53BEE-DA39-4DFD-B4C3-6D3B1BF4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5B74-5523-4589-BF51-4EC4323C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5589-190C-476F-B346-23BD941D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7A77-940F-4A29-870E-D37C2521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B858-95FF-49EE-943B-88EE060E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6E8B-EE52-4DA5-A33A-1FE5C9F0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A5B6-B6E5-4528-8FB9-CFEAF2F7E84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7CCB-1902-4881-AD5F-0C15222E9FB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3960-BF70-4743-AE02-33C624E7D23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8A55-786B-400C-806D-62C1178BE58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8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7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8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6 countries responded, from a possible approximately 85, a response rate of 42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, down on 2016, was similar to previous years and has been about this rate for the 30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7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75,73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418,443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5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eigh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7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30,89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7,813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5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2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6 Intermediate (12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5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4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, low cutaway, reserve opening on impac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Drowning or cutaway over water, possibly rendering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jumper unconsciou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otating Main Canopy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utaway, reserve incorrectly assembl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eserve P/C entangled with another’s c/a main, reserve di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t deplo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42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2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– 08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4 (27% of total fatalities, 5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5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30 (59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6 (31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0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0 (78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f the 2017 fatalities 6 were First Jump Students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2 Solo Students and 4 Tandem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4 (27% of 5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160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8.8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19,149 Solo jumps – 1,256,584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8; Solo Fatalities 43 (5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9-01-23T10:01:21Z</dcterms:modified>
  <cp:revision>123</cp:revision>
  <dc:subject/>
  <dc:title>SAFETY &amp; TRAINING FORUM 25 January 2003</dc:title>
</cp:coreProperties>
</file>