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3F026-C986-4217-83E5-36E1D199D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69726-9DA3-4EBB-9671-CF06216D9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7080-41C6-4C70-B2AC-6397692B8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4856-E465-4BB8-986E-8A911A637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E94A-F6A8-4CD4-9E53-FE9C38E81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D3B0-DD33-4CDA-957C-85D51AB59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870B9-E874-4DD4-98B0-14F5522B8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B18A5-B0BD-4D20-87A0-C85CECD1C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91DFF-208B-4A67-AC46-6AE86F392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DE028-C410-4AB7-88C7-9A3CDFAD7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88C4A-B618-4F99-9DB0-C89D9D433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E9016-61B5-48AB-955A-718418FB4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1EA65-33A1-481E-A306-A5DBAC70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93D8-B067-492E-8F0B-F6F2AF909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077F2-2199-45F1-BECD-126C0A34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C823A-ADB7-4828-A9C2-008E0B5B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EF1D9-DA5B-485B-8DB1-5724A80E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9A064-7017-4259-BCFC-57CF481E7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5BB50-E5C1-4A46-97B9-57104B691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E06BD-B3B5-44E1-9E1A-04CB9B1EF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74C3A-5D54-4675-AC5A-3D2B5A1AA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89DFE-A4C1-4C76-B78B-1AA869529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585CA-EFBC-416B-A726-49C237889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278E6-3E20-4F84-9CF1-403E60BFF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D9C6-6886-42C8-94F2-FCE33E904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9BDC1-F94B-44F3-B948-4D69A8067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48960-6C47-4516-B337-99E7D229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20A76-DD63-437A-B547-254A5C65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8FAA4-1F8B-4C88-A6D4-AB16BC48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FCC8E-35B9-4D3C-BF6E-262750100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46CD8-EC0D-481D-BF4F-AF8E46301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BBF35-F26C-48A1-A5C3-03453725A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49F50-D70F-4703-9DD3-EC26075BE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AF512-7AC1-4945-ABA9-2F008E7C0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39DE5-2AD7-4DCE-BBB4-1327A3645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372E-0F5E-42CD-B964-E782430B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C9FD8-7AB4-48DA-9098-456428305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DBB4C-8BC0-4602-BE86-56D96ED81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66E78-1983-4FF3-AB58-CEE3EE099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E5B9C-2C0D-446B-97F0-6B4C59F2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8E215-05C9-42CB-8CB0-7C1A6E30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E807C-1922-4B17-9E8D-86C6A3A5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88C72-6DE7-4AF0-A07A-44DEDEA18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EBC1B-0D7D-45BC-AC3A-7DD482D62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FDC1A-BB3E-4FAC-929E-687CC1FBE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4E53-1FE5-44F9-9A34-F415F56DC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D4CB-C4D4-4B40-9A27-AB814D8DC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6C64-5E91-4DF1-9EE8-3594AD42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1858-8034-4F38-AC51-548198D7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1408-49F9-4C10-A6F9-0AE21026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2D90D-2FA7-4E30-8BBA-B300AE3DE3C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6D9F2-C6F7-4AAF-91AF-25D9A4BDBA8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F025C-8026-4A53-A9B7-20945AF939F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19831-6BC4-4280-82C0-0F88AEC0C48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who request copi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CD has the following material -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5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5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6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6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s (2) issued in 2016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5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6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7 countries responded, from a possible approximately 85, a response rate of 44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8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5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7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627,02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25,838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0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as one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5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10,450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2,097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60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1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1 Intermediate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8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3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50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50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ast Canopies - Intentional Fast Landing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7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5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/Reserve Entanglemen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 Malfunction, no ac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andem Fatalit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No pull, AAD fired and cut loop but  no reserve deployment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oot caught on line, cut away, reserve partly open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Spinning main, reserve deployed 800 ft., no cutawa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edical Issu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Apparent incapacita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deflated at low altitude, structural failur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ollision with aircraft – jumper over runwa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urbulence at low altitud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Wingsuit -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 one wing not closed, vertical descent rate too low       1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to fire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5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500" spc="-1" strike="noStrike" u="sng">
                <a:solidFill>
                  <a:srgbClr val="000000"/>
                </a:solidFill>
                <a:uFillTx/>
                <a:latin typeface="Arial Unicode MS"/>
              </a:rPr>
              <a:t>Total  50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12 - 20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7 – 12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Related issu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6 – 10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9 (32% of total fatalities, 60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60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1 (68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9 (48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6 (10%) might have been avoided by AAD us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2 (70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Five of the 2015  fatalities were First Jump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9 (32% of 60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7.6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455,873 Solo jumps – 1,171, 150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1; Solo Fatalities 59 (60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7-01-17T21:11:37Z</dcterms:modified>
  <cp:revision>112</cp:revision>
  <dc:subject/>
  <dc:title>SAFETY &amp; TRAINING FORUM 25 January 2003</dc:title>
</cp:coreProperties>
</file>