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6E6D-AA26-4163-BB6E-D22F5B25F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F39D-E67F-4294-9CD5-47936592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29EC-C347-425E-9597-6FC0FF18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A2E5-920E-43A1-8991-C0E590368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EF7D-4723-475B-986C-3C43B88F3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E51BF-80B0-411A-BEBC-0CD6ECB18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79527F-2CAD-4771-A10C-1466BDF2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C29A5-475B-497E-84E5-4AEA95BF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D4E7A-578F-4A15-AB94-E3F1E7B1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7112C-E345-4743-A38D-1F35FC2C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7601B-89F6-4B07-895E-68948AA5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1999F-A1FC-4A6E-BD86-61AD985D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AEA6-9C78-4A3B-9446-6414B700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53EBB-93BE-4CB8-AA50-D1A851F1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BC9BD-1FEC-44F2-9446-7C3F4806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37145-3992-44B2-891D-51F26EC3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412C5-03E6-4AB6-B0FB-DFDC38D3F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BFED0-CF64-4007-A3FC-8C9D807F7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1577-1CE5-4EA4-84F3-B037F45F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C455-4705-4983-927A-7502F33C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C92A-C65E-4378-917E-80B16F03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3730-2D0C-41CF-BF67-850A2572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84FB-D8BA-4137-8D4F-9325898B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5D85-160B-45C4-8B2C-6E46CAF4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C94F-42FA-491F-ABCA-90C83DF0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75B3-3DFB-4D74-836D-B14DF6709F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B720-5006-4E35-AE16-B7C91E5F1A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2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3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3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5,769,010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357,15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9,028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893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400" spc="-1" strike="noStrike">
                <a:solidFill>
                  <a:srgbClr val="ffffff"/>
                </a:solidFill>
                <a:latin typeface="Arial"/>
              </a:rPr>
              <a:t>73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Interm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5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4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6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Other ‘ Fatalities (55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8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Other 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 walking into Propello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Aircraft crash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nknow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3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9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No or Low Activation of Main 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4% of 65 fatalities (8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60% of 65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3% of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0% of fatalities would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8 of the 73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eport, along with 2002 AAD Report, has been sent by e-mail to all respondents and to all other countries for which we have e-mail addresses.  Hard copies and CD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Som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4-12-21T22:32:57Z</dcterms:modified>
  <cp:revision>14</cp:revision>
  <dc:subject/>
  <dc:title>SAFETY &amp; TRAINING FORUM 25 January 2003</dc:title>
</cp:coreProperties>
</file>