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7D08-8622-4E65-88C1-9400CBA18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3928-D273-403B-B74A-B863E210F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E73E-3D00-402F-93F0-C1EA493A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E98A-4999-47A3-9205-536AA7B61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A0D2-D454-4E56-9AFF-710FCADB1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FB2E-A0AA-4203-B767-679B3341F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AA22-A7A6-4227-9866-AE9289A7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FA51-D145-4F94-A2B8-7F34C2D8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37B9-04BD-42FE-B380-A196BEA3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1243-23AA-4CE9-BCC1-E057AA0C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D709-F95E-413C-84DC-1E791F0D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4300-9A9C-4B29-BFEA-8D7BBAE2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1111-FD1B-4A4D-99F9-67C70DFE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3B08-3661-4D5A-8C1F-D472932B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ADF8-2F9B-4AB5-8D1C-CC1F6649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BE44-D57B-4995-A1A7-A7739B10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A5C3-2BC8-4D06-9417-35BF5E352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7040-31FA-4D71-9FFD-A948D1679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B9FB-B411-4D65-998B-8AE95ACB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EC97-42B0-4055-B2FA-40FBBACC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F177-B528-4A05-8A6E-97629531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8A27-5A66-438B-9B26-89ECD528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48D4-5251-4577-8DFD-CEC99410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8F9C-7741-488A-B7CE-1689EE71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7FCD-2DB0-44D0-A65A-405AF2DC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71AA-D9EE-4D16-B420-C6F96C3764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7A30-A469-40FB-8EE3-40F32805B5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4.jpe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55640" y="549360"/>
            <a:ext cx="33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2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7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230,563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059,937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3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8,690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9,999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3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71640" y="1196640"/>
            <a:ext cx="7423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Unexplained jumper incapacity, main deployed, no inpu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edical Condition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malfunction, no action, spiralled to ground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utaway handle pulled, main released, no reserve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, after AAD fire at fast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 after cutaway,  3-ring trapped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AFF Jump, student limp in harness at 300m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utaway by student at 50m, too low for reserv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spirals to ground, jumper may have been incapacitated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lag jump, flag escaped and obscured handles, no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Reserve opened incorrectly due to unstable posit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Landed in tree, killed during rescu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anopy malfunction on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Total 4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1"/>
          <a:stretch/>
        </p:blipFill>
        <p:spPr>
          <a:xfrm>
            <a:off x="6948360" y="18900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8353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0 – 1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 6 – 11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Main Canopy  Activation 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Cutaway &amp; Reserve Activ.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22 of the 53 fatalities (42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53 fatalities (19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%) appear to have been caused by human error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5 (9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3 ( 5.7%) of the 53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here was a very wide range of causes of fatalities in 2012, but the underlying factor appears to have been non-adherence to standard and fundamental pract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19 – 36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4,276,101 Solo jumps – 954,462 Tand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.2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Solo Jumps - 22.3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he ratio of Tandem to all jumps and to solo jumps is steadily increasing since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3 (5.7%)       Solo Fatalities 50 (94.3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000"/>
            <a:ext cx="7543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Power Point presentation and the full 2012 Safety Report, have been sent by e-mail to all respondents and to all other countries for which there are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5) issued in 2013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2 are requested to make a special effort to do so for 2013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14-01-22T19:15:56Z</dcterms:modified>
  <cp:revision>66</cp:revision>
  <dc:subject/>
  <dc:title>SAFETY &amp; TRAINING FORUM 25 January 2003</dc:title>
</cp:coreProperties>
</file>