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174E-851A-47DB-86DF-2C11021DE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AAF9-9B52-4D8C-97FD-BAADB63F0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1865-8A8A-456E-BE29-3DD18853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3239-CC9C-456C-89E3-336A4A525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F952-5640-4BF5-AFCF-BFF58717F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FCAD-7968-4EE7-AB74-87797967B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FA80-4E36-4E62-B1B7-36529D0E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CCFF7-0542-4CA9-8D54-C069E95D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8827-E730-44CC-A88D-300A870C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C1FCA-BE6F-4532-B8A1-2D516180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2D5B-B427-4531-87EE-6CABFE62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62876-8784-480F-B2C3-D34B371B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BF8D-46E2-4867-A5A5-96A8C5D15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0093-50BD-4637-8208-422428C2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8F25-CCEC-4D23-93C5-C64BFB9C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646A-EAA3-4807-989E-E57CAD84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F545-201A-405A-94FD-98722E323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B9DF-14AE-47E2-BF90-3021AF319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B0B9-F752-4A31-B012-78AC4165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4C23-F10B-452C-8FF3-14264DF7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7AE5-9006-4EED-A698-85CB0EB8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9E99-3AFF-4314-AD42-09A3A59C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5FFD-2C4C-430C-8EB7-828923A9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65A0-F1EE-4950-867E-852594DA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C93F-1188-405F-9CBE-C6CC250E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B7FC-CD52-4923-B641-160A924599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DC4B-84B9-4F30-A7D5-874B7F6EF6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4.jpe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55640" y="549360"/>
            <a:ext cx="33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2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7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230,563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059,937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3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8,690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9,999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3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71640" y="1196640"/>
            <a:ext cx="7423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Unexplained jumper incapacity, main deployed, no inpu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edical Condition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malfunction, no action, spiralled to ground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utaway handle pulled, main released, no reserve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, after AAD fire at fast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 after cutaway,  3-ring trapped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AFF Jump, student limp in harness at 300m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utaway by student at 50m, too low for reserv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spirals to ground, jumper may have been incapacitated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lag jump, flag escaped and obscured handles, no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Reserve opened incorrectly due to unstable posit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Landed in tree, killed during rescu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anopy malfunction on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Total 4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1"/>
          <a:stretch/>
        </p:blipFill>
        <p:spPr>
          <a:xfrm>
            <a:off x="6948360" y="18900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8353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0 – 1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 6 – 11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Main Canopy  Activation 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Cutaway &amp; Reserve Activ.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22 of the 53 fatalities (42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53 fatalities (19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%) appear to have been caused by human error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5 (9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3 ( 5.7%) of the 53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here was a very wide range of causes of fatalities in 2012, but the underlying factor appears to have been non-adherence to standard and fundamental pract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19 – 36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4,276,101 Solo jumps – 954,462 Tand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.2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Solo Jumps - 22.3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he ratio of Tandem to all jumps and to solo jumps is steadily increasing since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3 (5.7%)       Solo Fatalities 50 (94.3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000"/>
            <a:ext cx="7543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Power Point presentation and the full 2012 Safety Report, have been sent by e-mail to all respondents and to all other countries for which there are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5) issued in 2013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2 are requested to make a special effort to do so for 2013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14-01-22T19:15:56Z</dcterms:modified>
  <cp:revision>66</cp:revision>
  <dc:subject/>
  <dc:title>SAFETY &amp; TRAINING FORUM 25 January 2003</dc:title>
</cp:coreProperties>
</file>