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C9FB-1ED8-492F-B80D-3FD12A39D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10B-EE76-4231-929E-3B06087A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7FE-A37E-472D-9075-3A44C45D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9C3-AB79-4014-BE23-B94F0DC4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53E1-6A21-4F09-800F-08A633B5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D2306-488F-4DEB-8EC3-56F890F9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4ED57-C985-4316-A182-54A345E9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851DA-2000-427A-8A9C-A539F60C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9813C-A273-4E54-809E-FBF91EDF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D1535-76A3-4958-9D3C-0686DB6D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070FF-AF49-4E45-9F64-EA510F4D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3616C-758F-42EB-8318-1D96E523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E2B-E077-4AC4-A894-63B56551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27C10-2B1F-4D9F-9479-F310B520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D90C8-F560-4D0D-9925-9D3B4CB6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10FBA-C5F0-4696-BC84-9ED8E226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1B000-1632-43EC-BFD8-1D17584C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EDB64-7EC4-48DD-80BD-8D6BF8D5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493-F7A2-45AA-92F9-16C619F7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CA2-21B0-4208-A16A-C4D48449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A95-5F39-4A79-9C5C-6732E697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F9A-DD31-4B18-8D76-B83D020E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D1D4-CC3A-4F5F-895E-0D840CE6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3CF0-71A9-48E2-A274-826B7B4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D5B-1C64-4E84-BF28-E31C43F4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03BD-741A-43A3-8F44-A7457F04E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1BFC-BAC1-4B4C-B049-D86DBB446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Tahoma"/>
              </a:rPr>
              <a:t>TECHNICAL &amp; SAFETY COMMITTE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2 Safety Repor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3 respond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3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5,769,010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357,15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9,028 ju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893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ffffff"/>
                </a:solidFill>
                <a:latin typeface="Arial"/>
              </a:rPr>
              <a:t>73 Fataliti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0-25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Interm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25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4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6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     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Other ‘ Fatalities (55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Other 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 walking into Propello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Aircraft crash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nknown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3%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9% Other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No or Low Activation of Main </a:t>
            </a: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4% of 65 fatalities (8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60% of 65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3% of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90% of fatalities would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8 of the 73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DISTRIBUTION OF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port, along with 2002 AAD Report, has been sent by e-mail to all respondents and to all other countries for which we have e-mail addresses.  Hard copies and CDs are now available for delega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"/>
              </a:rPr>
              <a:t>Some Tr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4-12-21T22:32:57Z</dcterms:modified>
  <cp:revision>14</cp:revision>
  <dc:subject/>
  <dc:title>SAFETY &amp; TRAINING FORUM 25 January 2003</dc:title>
</cp:coreProperties>
</file>