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344A-3F79-4E3F-AB7E-C4506C015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A10A-7CA9-4A86-8E6C-70409C83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E15C-7B06-468F-A183-1FC35B2E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B8C9-13CD-4351-A2FB-93B57978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86EE-A6E9-48DA-9E31-B862D137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EF9-AE17-4CF4-8891-C999E725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15C3-AFF2-4395-8B83-743D4151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5912-9B02-4BF3-AACE-BD4AB59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043C-0AC4-4B6A-9BC2-57736C8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74C-5ED5-4B5C-86DB-E0CEC17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C1D-4807-4486-ABF0-F4A4E6E7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7E42-8D2E-475F-9533-580B51C1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DB33-5DEE-4BC8-BD9E-3F35871D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7BBA-ECF0-4BD5-B45F-912C5F18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3D96-D40C-4DC8-961B-6A276F3B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9C6A-B020-4E08-951F-608587CD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FA7C-83CF-4205-8B5E-843BB4A3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B269-41F7-4498-A308-8D21AF3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DF50-53BA-4E1F-8D6A-AA42C3D7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2C01-B629-45E6-A4F5-FE51040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671D-F441-4B7A-990B-DF806DB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8E2D-00CD-4568-9637-CBD90495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1169-E10B-4944-B42F-B93ED63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1468-1C12-4648-ABA9-14AF4DB6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1517-7704-47D1-9810-D6AD5A9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531E-C63D-418B-B62D-8044E46A92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BCD-227D-4495-B46D-3BC0BFA7BA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3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 39 responding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2 people were killed skyd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335,624 skydives were made b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02,513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77,263 jum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4,909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82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4 Studen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17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8 Intermed.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34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40 Expert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(49%)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Cutaway/No or low reserve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8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55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Collis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Turn from 800m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Main/Reserve downplan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Heart attack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s striking aircraft in ai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 unconscious, landed on hard surfac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nopy deflated close to groun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Reserve malfunction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Jumper’s feet entangled in lines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Possible suicide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Suspected murder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Causes not reported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Total 5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0516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8% (15)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Cut-away &amp; low reserve pu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% (11) No or low pull on ma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19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6%  (5) Freefall colli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6%  (5) Cut-away and no reserve pull </a:t>
            </a:r>
            <a:r>
              <a:rPr b="0" lang="en-IE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IE" sz="48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9% of 65 fatalities (17 were discount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9% of 82 fatalities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0% of fatalities (16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77% of fatalities (63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82 Fatalities were First Jump Students (1 Solo and 1 Tandem Passenger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218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Increased use of A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Big movement towards Tandem jump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his report, along with 2003 AAD Report, and Power Point presentations for both reports, has been sent by e-mail to all respondents and to all other countries for which we have e-mail addresse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Ds with the reports and presentations are available to IPC delegates and to those who request copies. delegat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Blue Skies – or Grey Concrete!!!</a:t>
            </a:r>
            <a:br>
              <a:rPr sz="3600"/>
            </a:br>
            <a:r>
              <a:rPr b="1" lang="en-IE" sz="1600" spc="-1" strike="noStrike">
                <a:solidFill>
                  <a:srgbClr val="e5e5ff"/>
                </a:solidFill>
                <a:latin typeface="Arial"/>
              </a:rPr>
              <a:t>Thanks to Rix at Skydive Zimbabwe for permission to use this photograph.</a:t>
            </a:r>
            <a:endParaRPr b="1" lang="en-US" sz="1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5-01-15T11:01:13Z</dcterms:modified>
  <cp:revision>20</cp:revision>
  <dc:subject/>
  <dc:title>SAFETY &amp; TRAINING FORUM 25 January 2003</dc:title>
</cp:coreProperties>
</file>