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D501-7598-4B41-B8D0-44390C17C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2B3C-0BD9-4A47-A438-42248E98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785B-FA34-48FC-B9EF-2AED987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AD62-7B68-4380-B957-87CCD1E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3EF2-546D-4126-AB60-C4779569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E5F2-3E1B-4C15-8F58-C714F8A3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18E-3213-4EA4-8256-707CD686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CE7-8765-4EB1-9B1E-8609C23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7DD1-E1C8-4C6F-8B51-E62078C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0A4F-A3AA-4506-84D1-5909C342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2C4B-0D71-41A8-9708-69CB0F73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8AC6-635C-4C5B-8FAD-AEF39D4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FB2E-AFA2-46BA-B322-DB2B5987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A5C8-6E29-4B33-BCAA-DD0ED458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774F-BAE5-4AB1-8FA5-879E4B9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538B-138E-4C40-BB19-93682651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EEB6-5C95-4C7B-AE9E-1491DC20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A074-CDB6-4283-870B-490AB75E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C901-AA8C-450C-B60B-114C0084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879B-8E33-4C99-BF5E-FD9762A3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1D98-2AEC-4315-A73D-936AA25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C7D56-5E74-42AD-9747-23AEF9A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27A7-FC85-4707-A920-752E6CAC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483B-D4EE-441B-820C-68B3B46E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41C8-B00E-4A3E-8B82-305C33F6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A45-B8A4-456C-BEEE-5F118D59FB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3F0A-38E2-4BEA-8C97-61E5DCE2FD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99640" y="4941720"/>
            <a:ext cx="7559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ternational Parachuting Commiss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824360" cy="28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lang="en-IE" sz="4400" spc="-1" strike="noStrike">
                <a:solidFill>
                  <a:srgbClr val="e5e5ff"/>
                </a:solidFill>
                <a:latin typeface="Arial"/>
              </a:rPr>
              <a:t>2004 Safety Re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5596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,332,756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493,250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53 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100,618 jumps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9,307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              </a:t>
            </a:r>
            <a:r>
              <a:rPr b="1" lang="en-IE" sz="4800" spc="-1" strike="noStrike">
                <a:solidFill>
                  <a:srgbClr val="e5e5ff"/>
                </a:solidFill>
                <a:latin typeface="Arial"/>
              </a:rPr>
              <a:t>53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8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1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4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4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1692360" cy="103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‘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Other’ Fatalities (4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8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uicid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during CF open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ow cutaway &amp; Line twists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anopy collision during C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unconscious before AAD fir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Hard 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Jumper caught cutaway canopy whic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d with jumper’s own mai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Total 4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79311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2% (17) Landing Err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 9) Fast canop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3%  (7) Equipment probl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IE" sz="2800" spc="-1" strike="noStrike">
                <a:solidFill>
                  <a:srgbClr val="e5e5ff"/>
                </a:solidFill>
                <a:latin typeface="Garamond"/>
              </a:rPr>
              <a:t>                    </a:t>
            </a:r>
            <a:r>
              <a:rPr b="1" i="1" lang="en-IE" sz="4000" spc="-1" strike="noStrike">
                <a:solidFill>
                  <a:srgbClr val="e5e5ff"/>
                </a:solidFill>
                <a:latin typeface="Arial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02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66% of the 53 fatalities (18 were discounted for this statistic) occurred with the parachutist having at least one good parachute on his/her bac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1% - 27 of 53 fatalities, occurred after the successful deployment of the main parach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% - 6 of the 53 fatalities might have been avoided by AAD u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79% - 42 of the 53 fatalities, appear to have been caused by human err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76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                  </a:t>
            </a:r>
            <a:r>
              <a:rPr b="1" lang="en-IE" sz="3600" spc="-1" strike="noStrike">
                <a:solidFill>
                  <a:srgbClr val="e5e5ff"/>
                </a:solidFill>
                <a:latin typeface="Arial"/>
              </a:rPr>
              <a:t>Some Continuing Trend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ound Main Canopies being used l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Emphasis on good and thorough initial and ongoing training is probably the only way in which the big numbers of fatalities, especially from canopy handling/landing, may be reduc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50000">
              <a:srgbClr val="003399"/>
            </a:gs>
            <a:gs pos="100000">
              <a:srgbClr val="00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4 AAD Report, and Power Point presentations for both reports, has been sent by e-mail to all respondents and to all other countries for which we have e-mail addresses (72 in total)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–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4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Visiting Jumper Requirements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Chart 2006 – with details of AADs on the marke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Reserve Life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tudent Canopy Loading Gu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5 Not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5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1655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06-01-16T20:58:31Z</dcterms:modified>
  <cp:revision>33</cp:revision>
  <dc:subject/>
  <dc:title>SAFETY &amp; TRAINING FORUM 25 January 2003</dc:title>
</cp:coreProperties>
</file>