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3C00-4895-4A42-BCA6-2D5BD6C1C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3EB-5717-4AF7-A6FB-5111A108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D23-9392-4F65-ABC9-9687EB1B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C77-CBA9-4867-9BD9-2EC8DFFD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279-2021-4915-B9E7-5F975732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E495-1146-4090-AA5F-7EA778A0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1C96-2FC9-4880-943C-CC20E3B6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3587-DDFD-4282-8B88-181F15FB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DD9A-1381-4422-B478-1387A96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00EC-B302-4670-8053-648534AC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3043-4777-46FC-9B05-0F5CC0CF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182E-633A-4DCD-BA3B-AA726AB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62B-6E4B-4F46-A580-172B6BAB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B668-606C-4C0D-8702-4D5A6298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991D-F61F-4F73-9D89-E68DA8D5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F785-ABFB-466C-B65F-B4F9243F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7FB3-9509-4F12-8B50-21EF905D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2E7B-5C2E-4EA0-AC2D-1BAF97D5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8F7-B15B-4B05-95B6-08F85A0B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5F2-5204-4792-93FF-9E44D298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B79-A0AB-4DE0-B3EB-7EE1579F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66E-5007-4311-B087-C2C89904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69C-9018-47C6-B5BC-14ADCB2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14C-D2AE-4F25-8AF5-1A20AD0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77F-4CCC-4F06-8BF0-F2B6D256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4087-91E2-41EE-B16C-FBA55BAEC9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AA1E-21DE-440D-9759-3E264505EC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560" y="234936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TECHNICAL &amp; SAFETY COMMITTEE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16000" y="4292280"/>
            <a:ext cx="7848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59054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2005 Safety Report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74760" y="1916280"/>
            <a:ext cx="69292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6 countries supplied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,147,351 skydives were made b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806,515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64 people were killed skyd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 Fatality per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96,052 jumps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12,602 jump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eaeaea"/>
                </a:solidFill>
                <a:latin typeface="Arial"/>
              </a:rPr>
              <a:t>64 Fataliti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5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3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0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47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60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Other’ Fatalities (44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42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with aircraf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from canopy 30m. over water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ntanglement with Skyboar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AAD fire after fast, low turns.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54936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881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Fatalities – </a:t>
            </a:r>
            <a:br>
              <a:rPr sz="3600"/>
            </a:b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Largest Group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07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0% (13) Landing Err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7% (11) Fast canop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16%  (10) Low cutaway of 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Significant Figur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336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4 of the 64 fatalities (53%) (30 fatalities were excluded for this statistic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% - 26 of 64 fatalities,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6% - 10 of the 64 fatalities might have been avoided by AAD u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84% - 54 of the 64 fatalities,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3 of the 64 Fatalities were First Jump Stud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5929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aeaea"/>
                </a:solidFill>
                <a:latin typeface="Arial"/>
              </a:rPr>
              <a:t>Some Trends &amp; Issu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2060280"/>
            <a:ext cx="741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almost one-third of fatalities in 2005 – AAD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666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aeaea"/>
                </a:solidFill>
                <a:latin typeface="Tahoma"/>
              </a:rPr>
              <a:t>Tandem - So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10.4% against all Solo jumps  in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,565,870 Solo jumps – 581,000 Tand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  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55: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 2 (3%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Solo Fatalities 62 (97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320" y="1915920"/>
            <a:ext cx="7543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5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e CDs have the following contents –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5 AAD Report Power Point Pres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6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6 For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ose countries who did not report for 2005 are earnestly requested to make a special effort to do so for 2006.  The compilation of data is to the benefit of the country gathering same, not just to IP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258920" y="62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 and Appe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07-01-12T16:53:10Z</dcterms:modified>
  <cp:revision>40</cp:revision>
  <dc:subject/>
  <dc:title>SAFETY &amp; TRAINING FORUM 25 January 2003</dc:title>
</cp:coreProperties>
</file>