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F930-D924-4D0C-9890-7596B2D1F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C8A-DF64-4B70-8CB0-22241CA8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1D4-98AC-40D2-A96D-9BF546B8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441-A2E2-4D5A-A4EE-E9F56E87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22B-2102-4172-BD36-4F04809F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48BB-D3E4-45BD-A150-CA1355A5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81A8-4202-4D3E-A59A-6B26C99B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74DC-B145-4863-9BCE-784B2F75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5451-FFBA-4411-8900-59D9A00C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5D54-7B5E-48A4-9E75-F51FFAB3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BD2C-526F-4D65-8C2D-E9307934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69F6-14DC-46CC-BE9B-456142EC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067-9B64-438A-A70D-F304C33D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BE61-30E5-413E-B5C3-CCD31897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346E-2367-44C9-BF1A-55CD3BBF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891F-802B-47BA-841A-E7FCCEF3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9419-F078-483C-B4F3-F27C993E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4ADE-6906-4E88-8615-5733681B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86F-9E2E-499E-8242-1986BA57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D42-A1AB-487E-AE03-4B5688FC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879-4EC8-4609-8169-CB0BCC2F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4FA-4CF9-4A86-BBDA-11411CD6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2B1-271F-4CC4-AC24-D6CEAB4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C5F-08B3-4074-8D62-C2F04BDA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3A5-C9B5-43AF-A84B-49C02D0A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170E-1A60-41E2-9D33-80E257254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3358-7489-4763-A143-4DA3BD0B05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590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2006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"/>
              </a:rPr>
              <a:t>39 countries suppl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958,194 skydives were made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832,683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1 people were killed skyd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16,827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6,327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"/>
              </a:rPr>
              <a:t>51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22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18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Other’ Fatalities (37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Equipment Problem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utaway and bag-lock on reserve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alfunction of deploy. device, no reserve action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anding under two canopie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otation under canopy until impact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Collision on opening (CF jump)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Medical problem &amp; impact with building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"/>
              </a:rPr>
              <a:t>Total 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772164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1% (16) Fast Cano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8% (  9) No or Low Main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10% each ( 5 each) Other Landing 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Errors and Equipment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8200" y="10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Significant Fig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37 of the 51 fatalities (73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21 of the 51 fatalities (41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10 of the 51 fatalities (20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"/>
              </a:rPr>
              <a:t>41 of the 51 fatalities (80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5 of the 51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"/>
              </a:rPr>
              <a:t>2 of the 51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ncreased use of AAD shows in relatively low figure for number of jumpers who might have been saved by the use of an 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No/low pull on main, cutaway and no/low reserve pull accounted for 27% of fatalities in 2006 – AAD may have reduced this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12.2% against all Solo jumps  in 2006 – 10.4% in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5,311,515 Solo jumps – 646,67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Tandems ratio to other types of First Jump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13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o S/L, IAD/JAD, AFF combined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Tandem Fatalities 2 (4%)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Solo Fatalities 49 (96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This report, along with 2006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6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Protective Headwear Survey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Bulletins (2) issued in 2007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7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7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06 are earnestly requested to make a special effort to do so for 2007.  The compilation of data is to the benefit of the country gathering same, not just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854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07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8-01-16T08:38:04Z</dcterms:modified>
  <cp:revision>48</cp:revision>
  <dc:subject/>
  <dc:title>SAFETY &amp; TRAINING FORUM 25 January 2003</dc:title>
</cp:coreProperties>
</file>