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79CF-C9C5-4805-81A2-DDDB7410F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DCA5-C733-44DD-AF03-E5B9F5C8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45768-12F5-4843-A7C6-56045869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99734-A4C4-4D6A-800F-7336E94C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CC3C4-CB11-4196-864F-5FB6576C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2AFD-D3E3-478B-8075-76F602F8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209C-495D-4592-8910-91751A7D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35C1-03DF-4835-9689-46D78B69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A14A-7F5A-402A-B6EB-38636476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E704-21BF-48FD-9832-70A6F070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6EAE-8F8F-4532-8499-2E7730DB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828C-55F5-4189-92B8-AECFF162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3CB25-B5DF-463A-A60A-579F6711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0F3E-DF74-4CA3-AE2D-B6285455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595D-A685-4953-AB57-59DF4820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9EDC-7FB8-4AD6-A8A1-24B6A775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A48B-668B-43EB-A96E-3B07E1D5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B5EC-801D-44FC-80B6-21D536C7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CD5E-081E-491D-AF57-360F9C39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FF35-0819-4C1C-964B-6E00D693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3D70-1C22-40FF-8E44-3AF2133A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88248-591B-4BC8-B8E9-2B0EDC8D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BAEE-2358-41C2-BD00-FC939C97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1E45-983B-4F19-A978-F726509A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F42B-1DAB-47B3-B8FD-7B95914E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41A2-F93B-4D43-86D7-B755E98A07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7268-81A8-45BF-AA4A-E51B559CEF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TECHNICAL &amp; SAFETY COMMITTE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0876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353880"/>
            <a:ext cx="590544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2007 Safety Repo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692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Garamond"/>
              </a:rPr>
              <a:t>41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222,629 skydives were made 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837,831 jump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8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1,509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,321 jump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6000" y="404640"/>
            <a:ext cx="169200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e5e5ff"/>
                </a:solidFill>
                <a:latin typeface="Arial Unicode MS"/>
              </a:rPr>
              <a:t>68 Fatalitie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6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68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‘</a:t>
            </a:r>
            <a:r>
              <a:rPr b="0" lang="en-IE" sz="3600" spc="-1" strike="noStrike">
                <a:solidFill>
                  <a:srgbClr val="e5e5ff"/>
                </a:solidFill>
                <a:latin typeface="Arial Unicode MS"/>
              </a:rPr>
              <a:t>Other’ Fatalities (5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4232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Main Activation, too low Reserve Activa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agged on Land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Hard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Reserve opened at Aircraft Door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2360" cy="10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620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Fatalities – Largest Grou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04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2% (15 of 68) Other Landing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% (11) Fast Canop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% (7) Cutaway and no Reserve Deploy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98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Some Significant Figu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917720"/>
            <a:ext cx="80024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2 of the 68 fatalities (47%)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4 of the 68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6 of the 68 fatalities (24%) might have been avoided by AAD u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5 of the 68 fatalities (81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5 of the 68 Fatalities were First Jump Stud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2 of the 68 Fatalities were Tandem, Instructor &amp; Stud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69200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e5e5ff"/>
                </a:solidFill>
                <a:latin typeface="Arial Unicode MS"/>
              </a:rPr>
              <a:t>Some Trends &amp; Iss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41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 resulting from landing and handling canopies – a continuing iss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6 – 12%, appears to be a more apparent factor in recent years.  This may point to an ageing skydiving population or other factors may be involv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- 24% of fatalities in 2007 may have been avoided by the use of A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e5e5ff"/>
                </a:solidFill>
                <a:latin typeface="Arial Unicode MS"/>
              </a:rPr>
              <a:t>Tandem - So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9.6% of all jumps, Tandem &amp; Solo jumps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2.2% in 2006; 10.4% in 200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624,395 Solo jumps – 598,234 Tand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0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5.5 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2 (3%)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Solo Fatalities 66 (97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6923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DISTRIBUTION OF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This report, along with 2007 AAD Report, and Power Point presentations for both reports, has been sent by e-mail to all respondents and to all other countries for which we have e-mail address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CDs are available to IPC Delegates and to those who request copies.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Garamond"/>
              </a:rPr>
              <a:t>The CD has the following -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2007 AAD Report Power Point Present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Information Notices (8) issued in 2008 by T &amp; S Committe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Form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Safety Survey 2008 Notes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Garamond"/>
              </a:rPr>
              <a:t>AAD Survey 2008 For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 u="sng">
                <a:solidFill>
                  <a:srgbClr val="ffffff"/>
                </a:solidFill>
                <a:uFillTx/>
                <a:latin typeface="Garamond"/>
              </a:rPr>
              <a:t>APPEAL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Garamond"/>
              </a:rPr>
              <a:t>Those countries who did not report for 2007 are earnestly requested to make a special effort to do so for 2008.  The compilation of data is to the benefit of the country gathering same, not only to IPC and the worldwide skydiving community</a:t>
            </a:r>
            <a:r>
              <a:rPr b="1" lang="en-IE" sz="1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59600" y="388800"/>
            <a:ext cx="1601640" cy="930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26920" y="620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09-01-22T12:15:24Z</dcterms:modified>
  <cp:revision>56</cp:revision>
  <dc:subject/>
  <dc:title>SAFETY &amp; TRAINING FORUM 25 January 2003</dc:title>
</cp:coreProperties>
</file>