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E83DE-B5DE-46BF-A0FA-4906491BF4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8A80-C5B2-459F-90F9-DB38A3671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7DED-2722-472B-BD36-A8B693D38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382F-CF31-4F88-884F-B056BA3FE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9CE9-1B1F-440B-9FA5-229F222C3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B85B2-F7C1-4993-948D-6A8D9DA2D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321F8-AF63-466A-8A2E-E13289E9B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48F92-3A04-44FD-9603-9AE0BED8E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97E45-F858-4AAF-A5BF-8ACA474EE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A9462-D3BC-4868-A944-2486631B0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5852F-9352-4696-ABB3-FFE41159C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D11B8-BF7F-4991-8E30-9E07976FD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8D52-85CE-40A0-91FE-D05838FF1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9EC2D-958E-42F2-8D01-0234EB8A9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E1B01-0B05-49CC-AC48-E02DB3424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457D5-00D6-44BA-A44B-B713C5F17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AB71A-F568-44CD-A678-0194A94AB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0CAB1-E30F-49A5-A3FA-06AB9334C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155C-D2F9-4682-AAEB-A61A78BE7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C465-B062-4AB8-928E-41414F484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AAE1-52E3-455A-B879-6AAFB97FB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D38A-EE4A-477B-89F9-7D39783AA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D7BB-05DC-4AD0-8B53-FDDAA535B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6D2E-C570-4806-BF96-A5CECC09F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4C81-8047-4FB3-9F80-D1FB5465F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4BE7F-CE52-4E32-A753-342448E6CE0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EEB98-C5F8-4531-8F69-DDDF386D33A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4.jpeg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6560" y="184464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ECHNICAL &amp; SAFETY COMMITTEE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116000" y="3499920"/>
            <a:ext cx="784872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71640" y="620280"/>
            <a:ext cx="590544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2008 Safety Re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86920" y="1700280"/>
            <a:ext cx="692964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44 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countries supplied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5,770,169 skydives were made 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918,436 jum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             </a:t>
            </a: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70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people were killed skydiv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(these figures include Tandem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 Fatality p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82,431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3,121 jum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7164360" y="620640"/>
            <a:ext cx="1513080" cy="93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70 Fataliti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7632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8 Studen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26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3 Intermed.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19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39 Exper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56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7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5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7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7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26920" y="691920"/>
            <a:ext cx="563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Other’ Fatalities (58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42920" y="1915920"/>
            <a:ext cx="74232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Fast Canopies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1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Other Landing Errors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Medical Issues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Collision under open Canopies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            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        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Tandem Fatalities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Main/Reserve Entanglement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Equipment issues/problems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Hard Openings –  1 dead on landing, 1 ruptured aorta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Freefall Collision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Low Canopy Collision 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Out of sequence Reserve Deployment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5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2"/>
          <a:stretch/>
        </p:blipFill>
        <p:spPr>
          <a:xfrm>
            <a:off x="7093080" y="765000"/>
            <a:ext cx="1511280" cy="9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ffffff"/>
                </a:solidFill>
                <a:latin typeface="Arial Unicode MS"/>
              </a:rPr>
              <a:t>Fatalities – Largest Group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618920" y="2349000"/>
            <a:ext cx="597708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Fast Canopies 17 – 24% of 7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Landing Errors 11 – 16% of 7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Medical Issues   8 – 11% of 7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4"/>
          <a:stretch/>
        </p:blipFill>
        <p:spPr>
          <a:xfrm>
            <a:off x="7093080" y="620640"/>
            <a:ext cx="151128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10920" y="54900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ffff"/>
                </a:solidFill>
                <a:latin typeface="Arial Unicode MS"/>
              </a:rPr>
              <a:t>Significant Fig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68000" y="1918800"/>
            <a:ext cx="800244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48 of the 70 fatalities (69%) appear to have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35 of the 70 fatalities (50%)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10 of the 70 fatalities (14%) might have been avoided by AA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47 of the 70 fatalities (67%)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8  (11.4%) 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of the 70 Fatalities were First Jump Stud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6  (  8.6%) of the 70 Fatalities were Tandem fataliti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18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88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ffffff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71640" y="1989000"/>
            <a:ext cx="741672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High numbers of fatalities, 35 – 50%, resulting from canopy handling and landing issues – a continuing concer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Fatalities from Medical Issues, minimum 8 – 11.4%.  See Medical Requirements Survey Report by T&amp;S Committee and Elisabet Pettersson presentation – 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Medical and Disability Considerations in Skydivi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6877080" y="765000"/>
            <a:ext cx="1440000" cy="9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12.1%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, Tandem + Solo jumps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9.6% in 2007; 12.2% in 2006; 10.4% in 200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5,073,891 Solo jumps – 696,278 Tand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ratio to other types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First Jump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tatic Line and IAD/JAD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6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AFF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2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/L, IAD/JAD, AFF combined           4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 Fatalities 6 (8.6%)       Solo Fatalities 64 (91.4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899640" y="1557360"/>
            <a:ext cx="7543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is report, along with 2008 AAD Report, and Power Point presentations for both reports, has been sent by e-mail to all respondents and to all other countries for which we have e-mail addresses.  CDs are available to IPC Delegates and to those who request copi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The CD has the following material 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8 Safety Survey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8 Safety Survey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8 AAD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8 AAD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9 Form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09 Notes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AAD Survey 2009 For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Information Notices (6) issued in 2009 by T &amp; S Committe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Medical Requirements Survey Repo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1200" spc="-1" strike="noStrike">
                <a:solidFill>
                  <a:srgbClr val="ffffff"/>
                </a:solidFill>
                <a:latin typeface="Arial"/>
              </a:rPr>
              <a:t>Medical &amp; Disability Considerations in Parachuting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 – Presentation by Ms Elisabet Petterss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 u="sng">
                <a:solidFill>
                  <a:srgbClr val="ffffff"/>
                </a:solidFill>
                <a:uFillTx/>
                <a:latin typeface="Arial"/>
              </a:rPr>
              <a:t>APPE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ose countries who did not report for 2008 are requested to make a special effort to do so for 2009.  The compilation of data is to the benefit of the country gathering same,  and 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e worldwide skydiving communit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buSzPct val="24721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7020000" y="765000"/>
            <a:ext cx="1328760" cy="77004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104292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aptop</cp:lastModifiedBy>
  <dcterms:modified xsi:type="dcterms:W3CDTF">2010-01-21T12:56:55Z</dcterms:modified>
  <cp:revision>62</cp:revision>
  <dc:subject/>
  <dc:title>SAFETY &amp; TRAINING FORUM 25 January 2003</dc:title>
</cp:coreProperties>
</file>