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BD8B-B1FF-4204-A924-0C65C73EF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967E-A843-449A-9E1E-70640C839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3783-7CD6-4DC9-A102-C566318B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B2E4-C19C-485E-996C-44D77A38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CA58-3582-4423-B631-DC3E9118B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A15F-2A3A-4C30-ACDB-790B5551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AEE4-5FC7-4F2A-931B-B72AECE7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09C5-34BF-4C5B-8C50-FF2C6ECA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15E5-5E98-4157-8D77-87E32DD6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904D-982D-4CE6-8E13-3587CCC1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1091-0DDE-4372-B097-36BB5314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3C03-B3B0-4FAF-922D-398611C9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F7CB-520E-49F8-A266-922915CC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A57B-88CE-458D-8728-3656A447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38E7-29FD-4216-866B-F9CFA493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3D9C-7965-4FD6-AC28-77411048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9DD5-00A6-4B12-BCD3-EF39243E9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51DF-4D1B-49EA-881B-E7344426D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4372-A562-48C3-A921-D730BA9C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7D6F-59ED-42CE-B2B4-C233030F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F32E-2A90-4DDA-9C85-353C96DB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0450-263B-4C10-AA2B-683D759B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EDDE-CD90-4F7B-8C55-E2A4DE4F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BFC1-7D79-412E-9371-40FC8122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D703-C705-4C2D-B3EA-E93AF3F7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BA45-A711-49AA-8C63-7138D0C7FF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98F4-8080-4850-9B52-7ED829C156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7360"/>
            <a:ext cx="5905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2009 Safety Repor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452,521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55,558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2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87,944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5,412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b2b2b2"/>
                </a:solidFill>
                <a:latin typeface="Arial Unicode MS"/>
              </a:rPr>
              <a:t>62 Fatalit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2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9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4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3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6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58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56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b2b2b2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4232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under open Canopi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AAD-activated Reserve Entanglement with jumper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Brake-lock, spiralling main canop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otating main with twists, no action tak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bridle on jumper’s leg, reserve could not deploy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Reserve activation resulted in downplane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Low navigation collisio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Hard pull on main, AAD fired, impact before reserve open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Main Entanglement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500" spc="-1" strike="noStrike">
                <a:solidFill>
                  <a:srgbClr val="b2b2b2"/>
                </a:solidFill>
                <a:latin typeface="Arial Unicode MS"/>
              </a:rPr>
              <a:t>Fatalities – Largest Groups</a:t>
            </a:r>
            <a:endParaRPr b="0" lang="en-US" sz="3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20360" y="2349000"/>
            <a:ext cx="5975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2 - 19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8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/Low Main Pu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- 11% of 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0920" y="417240"/>
            <a:ext cx="61801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b2b2b2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2 fatalities (71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0 of the 62 fatalities (48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2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9 of the 62 fatalities (7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6  (10%) of the 62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7  ( 11%) of the 62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b2b2b2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2 – 52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– no significan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180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b2b2b2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3.5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008 - 12.1%; 2007 - </a:t>
            </a: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9.6%; 2006 – 12.2%; 2005 – 10.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4,717,493 Solo jumps – 735,028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  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7 (11%)       Solo Fatalities 55 (89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99640" y="1557360"/>
            <a:ext cx="75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09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09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0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0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8) issued in 2010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structor Requirements Surve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09 are requested to make a special effort to do so for 2010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21440" y="596880"/>
            <a:ext cx="1328760" cy="63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aptop</cp:lastModifiedBy>
  <dcterms:modified xsi:type="dcterms:W3CDTF">2011-01-16T19:43:18Z</dcterms:modified>
  <cp:revision>69</cp:revision>
  <dc:subject/>
  <dc:title>SAFETY &amp; TRAINING FORUM 25 January 2003</dc:title>
</cp:coreProperties>
</file>