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2CBA-010F-407D-9141-82A23C21E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059-2AD7-4A7D-8432-7FDFF5E9BB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BBC-64F1-401B-AFA1-9C029B8C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6CC-9A7E-49D9-AFC8-48B9F42A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8B4-F4EE-477A-897F-7B25FF21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085-0F53-4327-A4FC-7D34FB0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97D8-F197-46C9-AE52-89181E8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296A-9B84-4515-A4C4-FF131CA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7A56-5CC2-4F90-A3B3-9F0FBEFB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2F0D-BA90-4D41-8AEC-5CFE49B4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3CC6-3455-41DE-84ED-39434263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B5B9-E2AC-40F0-8C0B-B605E07F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417-6098-4E26-B938-03F9EB2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9E4-934A-4B75-842A-46A22FA5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4397-43B8-4BC1-AEDB-EA1D8EEE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A65F-E5A7-49AD-A804-F90201D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59AE-E8A1-4804-8D02-589D43B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55CA-07A5-48F4-A40A-F4C50574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66E0-21F3-4626-BE89-29F866A4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D7-3D85-4C31-A2BC-768A1A1B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5B6-2891-4251-B470-132E2346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E55-4CCA-4D55-B21D-44A67AED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4B6-0110-4E2F-86BE-5EAC97D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7407-BF8A-45D8-A501-F965ABD6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F397-B289-44B1-B9AC-43A7648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611-C3F8-4C49-963F-C9BEFB55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271E-B92D-482F-8A85-A6FB03BD33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43F4-1326-425F-904F-4A4F83D940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0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420,087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164,200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66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97,274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7,639 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66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2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5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14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47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71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5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5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81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 - 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ollisions/Entanglements after ope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/Reserve Entanglement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edical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/no cutaway, Spiralled to ground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otal 5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logo_ipc_01_trait copie"/>
          <p:cNvPicPr/>
          <p:nvPr/>
        </p:nvPicPr>
        <p:blipFill>
          <a:blip r:embed="rId8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5 - 23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/Intent. 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3 - 20% of 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s/Entanglements           11 – 17% of 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These  39 of the 66 fatalities - (59%) were                      canopy handl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44 of the 66 fatalities (67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66 fatalities (59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66 fatalities (16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59 of the 66 fatalities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4 (6%) of the  66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   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ere were no were Tandem fatalities  in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9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990440"/>
            <a:ext cx="74167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ontinuing high numbers of fatalities, 39 – 59%,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Over a ten-year period there has been an irregular decrease in the percentages of fatalities among Student and Intermediate jumpers and an irregular increase in the percentage of fatalities with Expert jump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Increased use of AAD and RSL re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 15.1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1600" spc="-1" strike="noStrike">
                <a:solidFill>
                  <a:srgbClr val="ffffff"/>
                </a:solidFill>
                <a:latin typeface="Arial Unicode MS"/>
              </a:rPr>
              <a:t>2009 – 13.5%; 2008 - 12.1%; 2007 - 9.6%; 2006 – 12.2%; 2005 – 10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5,452,158 Solo jumps –  967,929 Tand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other types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First Jump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tatic Line and IAD/JAD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6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AFF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6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o S/L, IAD/JAD, AFF combined         10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All 2010 fatalities were Solo jump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logo_ipc_01_trait copie"/>
          <p:cNvPicPr/>
          <p:nvPr/>
        </p:nvPicPr>
        <p:blipFill>
          <a:blip r:embed="rId3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99640" y="148392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2010 AAD Report, and Power Point presentations for both Safety and AAD reports, has been sent by e-mail to all respondents and to all other countries for which the 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Safety Surve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0 AAD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1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AAD Survey 2011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7) issued in 2011 by T &amp; S Committee of I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200" spc="-1" strike="noStrike">
                <a:solidFill>
                  <a:srgbClr val="ffffff"/>
                </a:solidFill>
                <a:latin typeface="Arial"/>
              </a:rPr>
              <a:t>Learning from the Mistakes of Other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, Skydive Arizona  Accident review 1991 – 20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by Bryan Burke, S&amp;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0 are requested to make a special effort to do so for 2011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11-04T20:16:36Z</dcterms:modified>
  <cp:revision>80</cp:revision>
  <dc:subject/>
  <dc:title>SAFETY &amp; TRAINING FORUM 25 January 2003</dc:title>
</cp:coreProperties>
</file>