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D093-1507-4EE8-BE19-0A3B6B12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156-A6AA-4E6E-9D1B-63C9F1A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02F-CB42-44D8-91D6-537AC2F8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C17-DE2F-478C-8B4F-B90ACB43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6C3-E87C-490B-8E91-79314C61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F9FC-8991-4A95-830F-EF10B14B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AE33-51D3-4FA6-A6D9-9FDF968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AF8-5119-4DFB-899C-3664E383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29D-2A52-4DE6-8D2E-DD977B21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A0A2-9A4F-4B45-BC4B-8FE1A656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A435-EE72-4B28-BD93-2A0279C3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9619-E9E1-4531-8F26-6D0D5AA8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970-44FE-4BAF-BDEA-0E5DC12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E8E0-993D-4DE3-9C94-119AED70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086A-C196-4083-A20A-7898A1A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752D-CB9A-495E-9F01-0E7F8B9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070-D2BC-4223-9D24-C57F1077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3A9B-08AC-4208-AD36-257C499C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1B5-5EFF-408B-9AEB-090058E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7B-4666-4025-8296-7AAAC9C7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7CC-B9DF-403A-8929-C2727383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90E-431E-41FE-BDDE-DDF840F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AB7-9DC7-4CBE-8C33-37BD1E1A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54A-EE08-4E90-9AD5-30877E8B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601-DD42-4F22-84F8-6E054C57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1DDB-0421-4A2D-AB11-71C611E3CC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3D19-0823-4736-9A5F-D89068F59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5564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9054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2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6929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5,230,563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059,937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3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 Unicode MS"/>
              </a:rPr>
              <a:t>98,690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9,999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13080" cy="9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3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1 Intermed.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2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1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(60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63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423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Canop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Other Landing Error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Equipment Problem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Tandem Fatalitie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Unexplained jumper incapacity, main deployed, no inpu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edical Conditions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malfunction, no action, spiralled to ground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utaway handle pulled, main released, no reserve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, after AAD fire at fast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/reserve entanglement after cutaway,  3-ring trapped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AFF Jump, student limp in harness at 300m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Collision with aircraft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utaway by student at 50m, too low for reserv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ast spirals to ground, jumper may have been incapacitated  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lag jump, flag escaped and obscured handles, no pull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Reserve opened incorrectly due to unstable posit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Landed in tree, killed during rescue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Freefall collision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4721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Main canopy malfunction on landing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 Unicode MS"/>
              </a:rPr>
              <a:t>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600" spc="-1" strike="noStrike" u="sng">
                <a:solidFill>
                  <a:srgbClr val="ffffff"/>
                </a:solidFill>
                <a:uFillTx/>
                <a:latin typeface="Arial"/>
              </a:rPr>
              <a:t>Total 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1"/>
          <a:stretch/>
        </p:blipFill>
        <p:spPr>
          <a:xfrm>
            <a:off x="6948360" y="18900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353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10 – 1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  6 – 11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Main Canopy  Activation 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Cutaway &amp; Reserve Activ. 5 – 9% of 5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7093080" y="620640"/>
            <a:ext cx="1511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000" y="1918800"/>
            <a:ext cx="800244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22 of the 53 fatalities (42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10 of the 53 fatalities (19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39 of the 53 fatalities (7%) appear to have been caused by human error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5 (9.4%) 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of the 53 Fatalities were First Jump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3 ( 5.7%) of the 53 Fatalities were Tandem fatal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416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here was a very wide range of causes of fatalities in 2012, but the underlying factor appears to have been non-adherence to standard and fundamental pract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numbers of fatalities, 19 – 36%, resulting from canopy handling and landing issues – a continuing conc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877080" y="765000"/>
            <a:ext cx="1440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4,276,101 Solo jumps – 954,462 Tand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.2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 jum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ratio to Solo Jumps - 22.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he ratio of Tandem to all jumps and to solo jumps is steadily increasing since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3 (5.7%)       Solo Fatalities 50 (94.3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99640" y="1557000"/>
            <a:ext cx="754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Power Point presentation and the full 2012 Safety Report, have been sent by e-mail to all respondents and to all other countries for which there are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hose 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2012 Safety Report Power Point Pres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Form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Safety Survey 2013 Notes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Information Notices (5) issued in 2013 by T &amp; S Committ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2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ose countries who did not report for 2012 are requested to make a special effort to do so for 2013.  The compilation of data is to the benefit of the country gathering same,  and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Arial"/>
              </a:rPr>
              <a:t>the worldwide skydiving commun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buSzPct val="24721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7020000" y="765000"/>
            <a:ext cx="1328760" cy="770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 </cp:lastModifiedBy>
  <dcterms:modified xsi:type="dcterms:W3CDTF">2014-01-22T19:15:56Z</dcterms:modified>
  <cp:revision>66</cp:revision>
  <dc:subject/>
  <dc:title>SAFETY &amp; TRAINING FORUM 25 January 2003</dc:title>
</cp:coreProperties>
</file>