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0EE3-D6EE-4C58-B806-95ED07C50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DDB1-6531-4C1B-BCD4-55B0D9D83D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6EE5-454C-4356-9419-8AEAB055D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D8D1-DA2E-4716-A033-B79398BA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07E9-E364-4858-9C26-7133CCE09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7F27-CE5A-4471-B630-CE0B4511C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8581-B452-4A69-9807-0BD53BB4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2FE6-70F1-455D-BE45-5EB90928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1A32-90C8-491B-903E-E6BEE883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0285-AF0E-4BA5-95DB-C3C61B8C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BBB9-4622-48AD-90C6-F7FE5B3F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428B-FA8B-40CE-8742-66938E45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5C86-6C6F-495F-8E1A-0FF2E066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EF86-721A-4E2A-B5DA-B31D67B1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2A40-AE6A-441C-B890-3D132ECB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781D-DDD8-4F77-9EEB-573DFC0A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74D1-B76E-4A59-8B28-5211F949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A02C-1566-4AFE-95D5-73964FA6B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F9DF-7421-481E-9DA3-4B0276EE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624B-657F-4ABA-8823-33192EE5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EEEC-0B67-4CD5-B705-42299723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D984-31A8-4A9F-BEFC-2FB9CD70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0D3D-55CE-44DD-A28F-AEE9A431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9EBE-0A74-4431-A07C-31B734AD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ED56-141B-44D8-BC19-2FEF66FF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ABE7-0FC5-40F2-A914-A9411C58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F0AD-19E6-4A4D-AABE-489F0F6467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D6D6-431A-4EB7-B2FE-6EF59C5C9E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1844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ECHNICAL &amp; SAFETY COMMITTE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6000" y="3499920"/>
            <a:ext cx="784872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logo_ipc_01_trait copie"/>
          <p:cNvPicPr/>
          <p:nvPr/>
        </p:nvPicPr>
        <p:blipFill>
          <a:blip r:embed="rId1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DISTRIBUTION OF 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&amp;S Committee has e-mail address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who request copies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The CD has the following material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2013 Safety Survey Report Power Point Pres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Form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Safety Survey 2014 Notes</a:t>
            </a: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IE" sz="1400" spc="-1" strike="noStrike">
                <a:solidFill>
                  <a:srgbClr val="ffffff"/>
                </a:solidFill>
                <a:latin typeface="Arial"/>
              </a:rPr>
              <a:t>A Report on Present International Regulations Regarding Diabetes Mellitus        Type 1 and Air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IE" sz="14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Those countries who did not report for 2013 are requested to make a speci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Arial"/>
              </a:rPr>
              <a:t>effort to do so for 2014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8" descr="logo_ipc_01_trait copie"/>
          <p:cNvPicPr/>
          <p:nvPr/>
        </p:nvPicPr>
        <p:blipFill>
          <a:blip r:embed="rId2"/>
          <a:stretch/>
        </p:blipFill>
        <p:spPr>
          <a:xfrm>
            <a:off x="7021440" y="404640"/>
            <a:ext cx="1328760" cy="936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0"/>
          <p:cNvSpPr/>
          <p:nvPr/>
        </p:nvSpPr>
        <p:spPr>
          <a:xfrm>
            <a:off x="104292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ffffff"/>
                </a:solidFill>
                <a:latin typeface="Arial"/>
              </a:rPr>
              <a:t>Respon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39 countries responded, from a possible approximately 85, a response rate of 46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The response rate was similar to 2012 and has been about this rate for the 26 years of the Safety Surv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With computerised records now commonly used, it is regrettable that the collection of data for the Safety Report does not appear to be made in many countri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</a:rPr>
              <a:t>Countries are strongly encouraged to set up data collection systems, which are an essential part of risk assessment and are of value in dealing with sports and aviation author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2013 Safety Re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3600" spc="-1" strike="noStrike">
                <a:solidFill>
                  <a:srgbClr val="ffffff"/>
                </a:solidFill>
                <a:latin typeface="Arial"/>
              </a:rPr>
              <a:t>39 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countries supplied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6,805,975 skydives were made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,381,239 jum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0" lang="en-IE" sz="2800" spc="-1" strike="noStrike">
                <a:solidFill>
                  <a:srgbClr val="ffffff"/>
                </a:solidFill>
                <a:latin typeface="Arial Unicode MS"/>
              </a:rPr>
              <a:t>57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people were killed skyd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(these figures include Tandems; there were no Tandem fatalities in 201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 Fatality p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119,403 Jumps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i="1" lang="en-IE" sz="2400" spc="-1" strike="noStrike">
                <a:solidFill>
                  <a:srgbClr val="ffffff"/>
                </a:solidFill>
                <a:latin typeface="Arial Unicode MS"/>
              </a:rPr>
              <a:t>24,232Jum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ffffff"/>
                </a:solidFill>
                <a:latin typeface="Arial Unicode MS"/>
              </a:rPr>
              <a:t>57 Fatalit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9 Studen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(16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10 Intermediate (1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(67%)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ffffff"/>
                </a:solidFill>
                <a:latin typeface="Arial Unicode MS"/>
              </a:rPr>
              <a:t>  4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5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 Unicode MS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logo_ipc_01_trait copie"/>
          <p:cNvPicPr/>
          <p:nvPr/>
        </p:nvPicPr>
        <p:blipFill>
          <a:blip r:embed="rId7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ffffff"/>
                </a:solidFill>
                <a:latin typeface="Arial Unicode MS"/>
              </a:rPr>
              <a:t>Other’ Fatalities (4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6983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ast Canopies - Intentional Fast Landing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No or Low Main Deployment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Unknown Caus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Freefall Collision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anopy Collis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Equipment Issue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 Malfunction , no action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Jumper Fell from Harness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utaway Good Canopy, no further action       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Drowning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Tail strike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CF wra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Main Malfunction, no action, AAD fir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but did not cut reserve closing loop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000" spc="-1" strike="noStrike">
                <a:solidFill>
                  <a:srgbClr val="ffffff"/>
                </a:solidFill>
                <a:latin typeface="Arial Unicode MS"/>
              </a:rPr>
              <a:t>   1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ffffff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_ipc_01_trait copie"/>
          <p:cNvPicPr/>
          <p:nvPr/>
        </p:nvPicPr>
        <p:blipFill>
          <a:blip r:embed="rId15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ffffff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235116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- 25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No or Low pull on main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1 - 19% of 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Landing Errors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 7 – 12% of 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14 + 7 = 21 (37% of total fatalities, 5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5" descr="logo_ipc_01_trait copie"/>
          <p:cNvPicPr/>
          <p:nvPr/>
        </p:nvPicPr>
        <p:blipFill>
          <a:blip r:embed="rId4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ff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2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, 42 (74%) appear to have occurred with the parachutist having at least one good parachute on his/her 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26 (46%) occurred after the successful deployment of the main parach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21 (37%) might have been avoided by AA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-32580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rial Unicode MS"/>
              </a:rPr>
              <a:t>of the 57 fatalities  51 (89%) appear to have been caused by human err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ffffff"/>
                </a:solidFill>
                <a:uFillTx/>
                <a:latin typeface="Arial Unicode MS"/>
              </a:rPr>
              <a:t>THREE of the 2013 Fatalities  (5% of 57) were First Jump Students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i="1" lang="en-IE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High percentage of fatalities, 21 (37% of 57) resulting from canopy handling, canopy control, and landing issu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AAD and RSL now widely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5" descr="logo_ipc_01_trait copie"/>
          <p:cNvPicPr/>
          <p:nvPr/>
        </p:nvPicPr>
        <p:blipFill>
          <a:blip r:embed="rId4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s 18% of </a:t>
            </a:r>
            <a:r>
              <a:rPr b="1" lang="en-IE" sz="2400" spc="-1" strike="noStrike" u="sng">
                <a:solidFill>
                  <a:srgbClr val="ffffff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5,582,526 Solo jumps – 1,223,449 Tan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 Unicode MS"/>
              </a:rPr>
              <a:t>Tandem Fatalities 0 ; Solo Fatalities 57 (10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5-01-22T16:03:18Z</dcterms:modified>
  <cp:revision>97</cp:revision>
  <dc:subject/>
  <dc:title>SAFETY &amp; TRAINING FORUM 25 January 2003</dc:title>
</cp:coreProperties>
</file>