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B16D-D514-4C98-BCAB-AB984EAE6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7C30-CA11-4C0D-A612-E3258DCCE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421-4ADE-45EC-8123-9C77EDA0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012-7655-4CC5-A6F9-4B954D5F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904-8D3B-4F6F-98A7-3C426B09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D95-7354-4031-BE93-9FE5CD82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0946-6434-4A18-9955-AE1D97FD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B661-7EEB-442F-AAAC-0A9C3FE8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F7E4-A9FB-4E8E-B402-EA5059A1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FF7C-AE07-4980-AC42-9C843507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D933-6142-4EFA-A16B-EBF61AA9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BA24-2FC6-4089-9506-80910C23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720E-35C2-4448-8EAC-B33ADBCA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F74-409B-4FA0-BD22-769D588F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28F7-0649-4391-9FDC-1BC984CA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B3A1-F54A-4CB6-9A85-AA65174E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61E4-39B0-4C7A-8FC2-A75458E1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25E9-84C4-41A2-92EB-0E4737B1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450A-76C7-4B4A-A7DD-AC3EF586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8B51-102D-4BCF-9DA4-02E93100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3E64-9DF8-4AC4-AE35-201983CB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085C-228F-41E9-B986-8E31D4B3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1378A-3235-4EF3-BEB2-3969E9CC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198A6-49D4-4E87-B65A-E32CB252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B068-1189-407A-9508-A7ECEC6E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6F8C-08D5-4CF1-B29E-08DF3EB4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9C6B5-2040-470F-A672-46FA1215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BF23-EB10-4AB3-9421-11975F65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F9DD6-AD60-4627-B296-4D5574F9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5A074-8DA4-4B55-B507-1966EE0B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9759-2EC5-4E19-BB42-A3AE94E5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EDA9-95BC-4FD2-8026-9CB2AB5F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E87FF-9551-4E79-AC62-F7DDAA89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7FE9-2686-40CC-8367-B68064CF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5DF15-2A2F-4E63-8806-4A7ADB14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1B5-A106-4830-8555-57E23ED0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C023-5093-423F-A64F-DE27ECD9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0A9F4-84D7-4BDD-963E-5F7D86DF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6EDB6-86B3-4824-AA8C-DFC3F92C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7624B-21F5-47AF-9AFC-15E8366B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F7EF9-A740-4DB0-B287-59527C72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4077A-B656-473D-9328-E751207B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16D8E-AD36-4207-BF4B-36C9571E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AD599-0CA0-48B5-87CF-6C29C7E9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2BE5E-4ED3-416A-9913-AF6C4E10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2D0-0390-42E7-83DF-91002E82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C02-F344-4695-8AAB-0401EBFD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DAEF-CF1A-4E20-92D1-FE96D438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58F-2E1D-4A2F-A810-0630CBBF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D40-9407-4E3F-A4A5-F851853F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1644-83AE-4D20-A04F-327D1FF12C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B6C6-46F1-420F-B513-85CC17A7A98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90FF-A783-4F2B-8C54-13F8A5F471C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0FA4-14FF-41A1-B56D-1989A31F160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4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Form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5 Notes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3) issued in 2015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4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5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7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4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237,725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14,867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hree Tandem fatalities in 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01,20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42,415 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(1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2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1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25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6983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 bridle entanglement with camer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lmet after unstable reserve activat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ow radical turn, high impact with water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using lung damage and death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stability, no Main deployment, AAD activated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reserve, freebag caught on jumper, insuffici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eight for reserve deployment, reserve lin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rapped unde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jumper’s arm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1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25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6 - 19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s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nd Canopy Collision – each a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4 – 13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3 – 10% of 3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39% of total fatalities, 3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0 (65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1 (35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6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3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4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39% of 3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640"/>
            <a:ext cx="8229600" cy="33415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75,020 Solo jumps – 1,162,7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3 ; Solo Fatalities 28 (3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6-01-14T20:42:49Z</dcterms:modified>
  <cp:revision>105</cp:revision>
  <dc:subject/>
  <dc:title>SAFETY &amp; TRAINING FORUM 25 January 2003</dc:title>
</cp:coreProperties>
</file>