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853F-2F69-4AE1-91B3-DDD1CD08D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E47D-104D-402E-8E9F-54387D1F1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872-5B16-4684-87AA-D00CAF6D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DE0-5E09-468A-9F30-89D8B107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D23-8B0A-42B4-ACAB-3AF9FAA0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33EA-F2DB-4D96-9201-379797B8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725C-3C73-46C6-AA00-B8218B14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A710-EF3F-4E0C-9A76-20B84A94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1C72-235F-4674-B31D-19DDBD88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E017-F092-44F4-BBC0-C135D3ED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0E09-EC57-4429-B4AE-D59EC1B4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F585-86BB-4928-AA60-5F1B20B7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01F9-BC73-4276-953C-FA72E502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DF0-9719-4C80-B9FD-49827606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602D-6F4E-46FB-B9BD-6C4AAB61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4218-3AC4-4D16-B016-FFED071D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C137-E024-49DE-B61A-B4D0D861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5F95-6A48-40A9-AE84-A19C0C30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09D5-F03B-4C32-80AA-52AF5284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9AD11-4BCE-484E-B949-2DCC5E53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72F11-0153-4BBD-B076-B895DC5B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BB2BC-2A74-485F-B657-F15E8DD7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D1FF7-826C-48CA-BE3E-7DCF70B3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78DB6-FE9F-4152-AE18-CD974AB8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3B7-89CA-41FE-9380-5B36AA5C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525D4-53F8-4883-8C3C-A94E9555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AAC77-6EA6-4EF9-9AF4-0F46BEA5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8E0BF-E426-4F93-BF44-4F0BC9AF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83218-EF8F-4702-A54A-84D05AC8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D0C79-58E0-46DB-AEC1-FA447D7F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681A0-1C38-4CBC-8B58-E66AF36A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7CF5A-4634-450B-BF9E-CF5C3EBF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33023-1045-46F6-956D-D9467F6E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E4C91-83C5-45EE-99CA-6C83AA6A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5A1B6-FAD5-48A4-98D4-2A64DE2C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0E5-0DC6-41AC-AD90-CA39A071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D8BD5-196A-4444-89BF-19A79579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77F3F-EA95-4C86-BB05-9E2FBC19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2229-9BB2-4999-8B4F-6F34A527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717A6-B605-47EC-A947-C23FD113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1AECA-B0CE-447B-9CF6-C181E8A2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C8244-AB62-4064-9669-6F259667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38993-2E87-43C2-A436-DB78CDC5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85221-747B-4CB0-9ADC-A0B49620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2595C-D2AA-459A-84F3-1BDE80B9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4F6-A201-4254-A1CF-3672BD35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9E1-5D51-479B-A77E-EC0852C6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805-027F-4417-9DE1-091BB696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A55-288A-4478-B671-2124417E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A9E-8558-4752-986E-B9634593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FC36-A84E-4499-A662-66905F9AFDF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7A8D-CB95-4336-8828-86E58F8CAD6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CC10-C230-4873-AE9D-A95F1CAA8A1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F508-BBDC-4163-AF93-12AEE36C99D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is and Power Point presentation, has been sent b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CDs are available to IPC Delegates and to Technical and Safety Officer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ho request copies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CD has the following material -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5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6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s (2) issued in 2016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5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6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7 countries responded, from a possible approximately 85, a response rate of 44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8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5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7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27,02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25,8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0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10,450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2,097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60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1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8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7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5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50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ast Canopies - 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5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 Malfunction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 pull, AAD fired and cut loop but  no reserve deployment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oot caught on line, cut away, reserve partly open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Spinning main, reserve deployed 800 ft., no cuta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Apparent incapacita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deflated at low altitude, structural failur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 – jumper over runwa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urbulence at low altitude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1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Wingsuit -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one wing not closed, vertical descent rate too low       1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to fire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50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ast Canopies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12 - 2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7 – 12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Related issu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6 – 10% of 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9 (32% of total fatalities, 60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60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1 (68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48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6 (10%) might have been avoided by AAD us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2 (70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Five of the 2015  fatalities were First Jump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9 (32% of 60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7.6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55,873 Solo jumps – 1,171, 150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59 (60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7-01-17T21:11:37Z</dcterms:modified>
  <cp:revision>112</cp:revision>
  <dc:subject/>
  <dc:title>SAFETY &amp; TRAINING FORUM 25 January 2003</dc:title>
</cp:coreProperties>
</file>