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3BAF-80B4-43AE-B2EB-6827FD3E4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F412-3BD4-4CCF-9759-2359BA647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56A-C225-48F9-8E42-36F81231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544-4664-4D58-935D-24F36E94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1DD-B2E2-447F-930D-FD1E0233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FE9-0854-4C75-A289-E3A113E1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0E48-AFED-4662-A87F-8D557193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FD9C-7650-44F1-8BD3-BA136021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9509-A647-48A0-B842-9BCE4A0D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39B0-8B20-4115-B30A-D59C920C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60DF-F465-4FF2-BB00-3BD80449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9577-CF7C-411A-B32A-2A487E9C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9F4E-5356-4974-B048-118076B3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B7D-F915-45E9-8AF1-7033E6CC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DE88-E235-4908-9B9A-30BEB92F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9C5F-7188-47BB-A81E-19DAEC81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7D92-68FA-40C6-BA45-0BBCC725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EC73-2DC3-4CBF-9C78-F648BEF9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B46A-0599-43FD-81C9-2A9E4739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4044-E5D6-4B43-9756-BCEAA99F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3AE5-3593-4010-A317-8D447B3E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6BD4-EFFE-45C4-8FC6-DEDB0485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801E-250B-467D-B70F-58B6C172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E96E-A218-4825-B47B-0C7F87A1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9FD-0D9A-4626-A066-BC8E7919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0562-BABC-4A3C-8D11-1F88F784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12210-02B0-48F5-A78F-F5334423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B126C-4E90-4A5D-B7F8-EADCFC4E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908D-475D-4E4A-A214-633A7E9A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9E75-7DC6-49FC-AF70-C41D024D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1991-A337-4896-A4EB-AB83823C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6A74-6227-4197-AEAC-EBE35D0A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83ED2-6B41-436E-AC6A-7D4E1AAE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9108B-42BF-40BB-89B7-0CCB216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C79BD-4A10-464E-B425-557422ED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52D-7FC6-4556-A5E4-1F9C2B10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7157-F9CC-47F3-8D95-69CBE30F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8752-313F-4F7A-BBE6-D42FCCEA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60B38-1E7E-45F9-9B0F-726D2BE3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A457A-F543-430C-873A-95F1E339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F346-C12C-4825-A1BD-AB4DD9E8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DA3E1-5BAD-4E9C-AB33-1AA567B4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54F9F-0919-4570-98E2-F2761D26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A5C44-36FB-49A2-8BEA-B70F1EE2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E1F58-AB2B-4196-81D5-A6C43AB0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6C7-E9F8-44C6-A942-5E9D2F24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A62-C30A-4296-96EF-B185689A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FB0-BA0E-4FC2-9896-7587BE80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86C-55A5-477E-907A-28AAB2E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DF8-3E16-41A1-8063-D9D9BD86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45F3-269B-4F35-A3EE-15DB0A80F44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E42F-2BAB-43CB-92FE-FC4C3E3E920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D0E4-4FBD-4EAA-98D2-CF48180EB17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89BC-8A8C-4A7A-91BD-DC03249CEEF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6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7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Information Notice (1) issued in 2017 by the IPC’s Technical &amp; Safety Committe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7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6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7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40 countries responded, from a possible approximately 85, a response rate of 47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 was similar to previous years and has been about this rate for the 29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6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0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7,523,610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375,159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39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tw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6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92,913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5,260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39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5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13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7 Intermediate   (1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9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6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3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mera 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ing in Heavy Turbulence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ircraft Strik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is severe spin on back, unconscious -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AD fired, reserve had twist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eath due to 42g spin or ground impact under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6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- 21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8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13% of 3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5 (38% of total fatalities, 39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39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8 (46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 (5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29 (74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ne of the 2016 fatalities was a First Jump Student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5 (38% of 39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6.1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,313,878 Solo jumps – 1,209,732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2; Solo Fatalities 37 (39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8-01-21T17:01:29Z</dcterms:modified>
  <cp:revision>118</cp:revision>
  <dc:subject/>
  <dc:title>SAFETY &amp; TRAINING FORUM 25 January 2003</dc:title>
</cp:coreProperties>
</file>