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EDDC-ABB6-42A9-AAE1-BA38C1E43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6534-4B97-48F6-8A05-E4E62ADF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DEA-EAF2-4A01-B956-E34460F3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C37-F415-4A1B-98C0-F15AB28B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E2E-2636-41DF-BC2C-3AD95EEC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20A-A3C9-4D41-BBA7-F8A8F4E1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C2DA-C1E6-416B-B540-3B0B87BD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8E9-96E9-452E-975D-8697B71A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5BAF-C8AA-4F20-9966-85BE46CE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9F8E-F83A-487E-8C9A-D250B547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8E91-4B92-4428-9193-27F7CEB6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8C70-8FB4-4A9E-AE60-6262DF38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6826-23A3-487C-BDC1-8AE4AA80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38F-F9D4-40B2-92B3-F42035E6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63B-E07A-480E-BED5-1736D20D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FB53-14DD-4518-B007-3E6D3D64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BE39-C4EE-48ED-A6EA-794712A0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C5D9-47AD-4018-AC15-20B01252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A6F-71D7-4517-9043-AD35171E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6F610-36BA-434F-B021-01354FF8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0BA5-EDB6-4719-B185-EE251AD9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8235-482A-4C13-8336-5B46DDCA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88A2-93B2-453B-8BF6-2C6D8B2D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D411-222E-441C-9073-40A7DC97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57A-F8CF-43A1-AD2C-74BE698B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E24D-8C4C-4B7D-BDA3-2F4C6914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81610-DA47-40A3-84C8-E62EBF6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8FE98-A0E7-4967-9E5C-2062504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084D-8915-4187-AC27-2E42A009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6D75-6DD7-4320-8684-25E89DB3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3334-38EC-4E4F-947E-DC8EDC35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AC32-7EB9-4C4B-B7FD-B086679C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014BF-B883-47D1-8A17-DF1BD4F1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61B2E-1D94-485C-B00C-E1AB5697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E5E8-71C0-4239-B391-61C93D59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7A9-6590-49CC-9A33-DDF27B26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53434-5D52-42C9-BC82-AD22EE9E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200CD-CB48-4821-8C28-53516B5E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C248-2D91-46E5-9061-34C14EE7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D54F-3073-4B18-B3C2-6D811D3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5855B-ADF9-493C-92B2-2E6E9597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6AA0-DB88-4386-A806-E580A584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EBF0-AAC0-41A5-85D5-2389A4BB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0C830-BCBA-4D1E-8B43-F584E12B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8366-3B23-4C62-847F-1588B4D3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B58-96C7-494A-80B1-9889453E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EF9-DBB9-43E5-AE88-852FBDE6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694-50AF-4758-9750-002417E3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EAB9-6AA3-4B7B-92F3-78EC59C3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A59-0140-4026-899B-3FB171D1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2571-0966-4CC3-A540-CE6D3E29209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CD2F-2DD7-4DF0-A965-59B5ECA22F9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0651-5B0C-493E-8262-CDD176DCA09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32DE-5B69-4425-9673-7188201A90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17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484000" y="3499920"/>
            <a:ext cx="648036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International Parachuting Commission</a:t>
            </a:r>
            <a:r>
              <a:rPr b="1" lang="en-IE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ffffff"/>
                </a:solidFill>
                <a:latin typeface="Arial Unicode MS"/>
              </a:rPr>
              <a:t>FA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ogo_ipc_01_trait copie"/>
          <p:cNvPicPr/>
          <p:nvPr/>
        </p:nvPicPr>
        <p:blipFill>
          <a:blip r:embed="rId2"/>
          <a:stretch/>
        </p:blipFill>
        <p:spPr>
          <a:xfrm>
            <a:off x="6588000" y="476280"/>
            <a:ext cx="17290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logo_ipc_01_trait copie"/>
          <p:cNvPicPr/>
          <p:nvPr/>
        </p:nvPicPr>
        <p:blipFill>
          <a:blip r:embed="rId1"/>
          <a:stretch/>
        </p:blipFill>
        <p:spPr>
          <a:xfrm>
            <a:off x="7451640" y="549360"/>
            <a:ext cx="1230480" cy="863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P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7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8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8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7 are requested to make a special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ffort to do so for 2018.  The compilation of data is to the benefit of the country gathering same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147636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ahoma"/>
              </a:rPr>
              <a:t>Distribution of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450720" y="463680"/>
            <a:ext cx="8686800" cy="115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8000" y="213372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36 countries responded, from a possible approximately 85, a response rate of 42%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The response rate, down on 2016, was similar to previous years and has been about this rate for the 30 years of the Safety Survey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Once again countries are encouraged to put in place systems for the collection of the type of data in this report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300" spc="-1" strike="noStrike">
                <a:solidFill>
                  <a:srgbClr val="04617b"/>
                </a:solidFill>
                <a:latin typeface="Arial Unicode MS"/>
              </a:rPr>
              <a:t>2017 Safety Report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3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675,73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418,443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51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ere eigh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30,897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27,813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logo_ipc_01_trait copie"/>
          <p:cNvPicPr/>
          <p:nvPr/>
        </p:nvPicPr>
        <p:blipFill>
          <a:blip r:embed="rId1"/>
          <a:stretch/>
        </p:blipFill>
        <p:spPr>
          <a:xfrm>
            <a:off x="7164360" y="404640"/>
            <a:ext cx="15130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4617b"/>
                </a:solidFill>
                <a:latin typeface="Arial Unicode MS"/>
              </a:rPr>
              <a:t>51 Fatalities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10 Studen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20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6 Intermediate (12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35 Expert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(68%)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 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4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5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7" descr="logo_ipc_01_trait copie"/>
          <p:cNvPicPr/>
          <p:nvPr/>
        </p:nvPicPr>
        <p:blipFill>
          <a:blip r:embed="rId1"/>
          <a:stretch/>
        </p:blipFill>
        <p:spPr>
          <a:xfrm>
            <a:off x="6732720" y="620640"/>
            <a:ext cx="1692000" cy="10400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‘</a:t>
            </a:r>
            <a:r>
              <a:rPr b="1" lang="en-IE" sz="3600" spc="-1" strike="noStrike">
                <a:solidFill>
                  <a:srgbClr val="04617b"/>
                </a:solidFill>
                <a:latin typeface="Arial Unicode MS"/>
              </a:rPr>
              <a:t>Other’ Fatalities (36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ain/Reserve Entanglemen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Incorrect Emergency Procedur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Equipment Relat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, low cutaway, reserve opening on impact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Drowning or cutaway over water, possibly rendering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jumper unconsciou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otating Main Canopy, no act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utaway, reserve incorrectly assembled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Reserve P/C entangled with another’s c/a main, reserve di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not deploy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500" spc="-1" strike="noStrike" u="sng">
                <a:solidFill>
                  <a:srgbClr val="000000"/>
                </a:solidFill>
                <a:uFillTx/>
                <a:latin typeface="Arial Unicode MS"/>
              </a:rPr>
              <a:t>Total  42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700" spc="-1" strike="noStrike">
                <a:solidFill>
                  <a:srgbClr val="04617b"/>
                </a:solidFill>
                <a:latin typeface="Arial Unicode MS"/>
              </a:rPr>
              <a:t>Fatalities – Largest Groups</a:t>
            </a: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 - 16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2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– 08% of 5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4 (27% of total fatalities, 5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5" descr="logo_ipc_01_trait copie"/>
          <p:cNvPicPr/>
          <p:nvPr/>
        </p:nvPicPr>
        <p:blipFill>
          <a:blip r:embed="rId1"/>
          <a:stretch/>
        </p:blipFill>
        <p:spPr>
          <a:xfrm>
            <a:off x="7093080" y="549360"/>
            <a:ext cx="1511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417600"/>
            <a:ext cx="618156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000" spc="-1" strike="noStrike">
                <a:solidFill>
                  <a:srgbClr val="04617b"/>
                </a:solidFill>
                <a:latin typeface="Arial Unicode MS"/>
              </a:rPr>
              <a:t>Significant Figur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002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01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F THE 51 FAT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30 (59%) appear to have occurred with the parachutist having at least one good parachute on his/her back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16 (31%) occurred after the successful deployment of the main parachut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5 (10%) might have been avoided by an AAD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25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40 (78%) appear to have been caused by human erro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Of the 2017 fatalities 6 were First Jump Students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900" spc="-1" strike="noStrike" u="sng">
                <a:solidFill>
                  <a:srgbClr val="000000"/>
                </a:solidFill>
                <a:uFillTx/>
                <a:latin typeface="Arial Unicode MS"/>
              </a:rPr>
              <a:t>2 Solo Students and 4 Tandem Students</a:t>
            </a:r>
            <a:r>
              <a:rPr b="1" i="1" lang="en-IE" sz="19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4" descr="logo_ipc_01_trait copie"/>
          <p:cNvPicPr/>
          <p:nvPr/>
        </p:nvPicPr>
        <p:blipFill>
          <a:blip r:embed="rId1"/>
          <a:stretch/>
        </p:blipFill>
        <p:spPr>
          <a:xfrm>
            <a:off x="7093080" y="47628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4617b"/>
                </a:solidFill>
                <a:latin typeface="Arial Unicode MS"/>
              </a:rPr>
              <a:t>Some Trends &amp; Issu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4 (27% of 51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5" descr="logo_ipc_01_trait copie"/>
          <p:cNvPicPr/>
          <p:nvPr/>
        </p:nvPicPr>
        <p:blipFill>
          <a:blip r:embed="rId1"/>
          <a:stretch/>
        </p:blipFill>
        <p:spPr>
          <a:xfrm>
            <a:off x="6877080" y="620640"/>
            <a:ext cx="144000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18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Arial Unicode MS"/>
              </a:rPr>
              <a:t>Tandem - Sol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2276280"/>
            <a:ext cx="8229600" cy="216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8.8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419,149 Solo jumps – 1,256,584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8; Solo Fatalities 43 (51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logo_ipc_01_trait copie"/>
          <p:cNvPicPr/>
          <p:nvPr/>
        </p:nvPicPr>
        <p:blipFill>
          <a:blip r:embed="rId1"/>
          <a:stretch/>
        </p:blipFill>
        <p:spPr>
          <a:xfrm>
            <a:off x="6877080" y="549360"/>
            <a:ext cx="144000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19-01-23T10:01:21Z</dcterms:modified>
  <cp:revision>123</cp:revision>
  <dc:subject/>
  <dc:title>SAFETY &amp; TRAINING FORUM 25 January 2003</dc:title>
</cp:coreProperties>
</file>