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6FDF-FB97-4D23-A308-FCB7413A2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53EE-20D0-4612-BC88-D1E3AAEC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36A-1AEA-426F-92CD-81B91A3F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AD0-F291-4FAD-940E-20E5F958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869-5EBF-45E5-A3D5-D44A6B83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DD7-ABFF-49BF-B92A-ABD9C5BB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1BC9-A498-47CA-B3EB-0791AAD3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6EF5-7E40-4475-80D9-E5FE93BA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AB66-6DCC-426D-8728-A246E21C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2C9E-849F-4DDA-84EA-52708FF1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DA67-ACBC-430E-95BF-9F905CA3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854C-4695-4941-BE1A-AB57DC2F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6AEC-49BD-4D36-AA70-44B8618C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A53-2704-404C-B895-E61816E7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7A60-3CFC-43C5-82B6-79EDD23D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8C57-55EA-4514-A8C6-962DB068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A528-1B4E-4D2D-9047-6E6B886E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6D04-32A5-482C-8B06-D2DD6DB3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3097-8D83-48C2-9FF7-852C8CF9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55A-5575-4817-AB8D-3BE17A35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3D8-075C-4B06-A8B4-1AEA8BCC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49A-8976-4FF3-BD52-8D9781B1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2D9-D6B7-427B-9653-2F28A199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8AB-588E-4D19-A895-07E36388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2ED-2D65-412C-BB74-006C006B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0E9-471A-4415-8F03-AC8C61CA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2237-6313-4BBC-90E8-820F4994813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21D8-6D29-46B1-9726-CF0CC68EE4F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4617b"/>
                </a:solidFill>
                <a:latin typeface="Calibri"/>
              </a:rPr>
              <a:t>Thanks – and Report Distribu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8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8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19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19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8 are requested to do so for 2019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2 countries responded, from a possible approximately 85, a response rate of 49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similar to previous years and has been about this rate for the 32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8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2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364,651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27,205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; there was on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ndem fatalitiy in 2018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44,651 Jumps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709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44 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4 Studen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(9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3 Intermediate     (3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7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(6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&amp; Low/No Reserve pu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7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Medical Issue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Equipment Entanglemen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Spinning main, cutaway &amp; reserve malfunction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AAD Fire &amp; Reserve Malfunct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ollision with Aircraft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Jumper spun on back, Reserve handle pulled,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Reserve did not deplo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Tandem Fatality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37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7 – 1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Medical Issue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–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Freefall Collisio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6 -  14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Equipment Entanglement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– 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2 (27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4 (55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15(3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0 (68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None of the 2018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, 12 (27% of 44)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19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056,227Solo jumps – 1,527,205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1; Solo Fatalities 43 (44 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0-01-20T16:21:36Z</dcterms:modified>
  <cp:revision>139</cp:revision>
  <dc:subject/>
  <dc:title>SAFETY &amp; TRAINING FORUM 25 January 2003</dc:title>
</cp:coreProperties>
</file>