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B924-66B3-447C-9A0E-39148C0F9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1926-0149-4032-8192-BC7F0C3E7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46E9-F509-455F-803B-08FAF614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3EDA-E498-4544-BB70-9BE549AC3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3B07-D945-4FAF-9D0B-80DC404F6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5DC76-46F4-4466-9A94-E72B020A4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A4691-64D8-4F1D-985F-D082E2D0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F1EB7-D05D-41C7-8A4F-EDA67C1D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1AC0D-347C-4521-8E34-4B07906C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906EE-5563-46FE-9EEA-9FBDA9CF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9EFF0-FA93-480A-AF14-556A36CE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83183-F184-4C5A-B802-8D62727C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1BD9-B43A-4C63-9F66-1BC9A4A2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04869-B8BA-4B1F-BDB6-7E2FFFEE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A60AD-A9AD-4AFA-AB88-BE738948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B205C-DE3F-41DD-A31A-1A8F8477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B6320-B2FF-482C-825B-B0F32F35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6FE81-6A24-4C77-843F-4F6DB44C8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FF45-7914-4D3B-883E-CAC4B384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6EEF-0BE4-42FA-8F7A-FB3FF600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E7B0-2E6D-4C3C-8F2A-155FCE04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1AA6-6E6A-44DD-A643-B5EDBF42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55C4-C1A1-48E0-8642-ACCC080B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E0DF-5DBC-4BDA-9D42-803DF70C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32A9-1824-49B6-935F-088D91E5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256D-655F-40F6-BA8C-0AD78497DA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3117-34F8-4216-AE91-F318643FAC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ternational Parachuting Commiss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IE" sz="4800" spc="-1" strike="noStrike">
                <a:solidFill>
                  <a:srgbClr val="ffffff"/>
                </a:solidFill>
                <a:latin typeface="Tahoma"/>
              </a:rPr>
              <a:t>2001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In 31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92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6.872,438 skydives were m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17,2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74,700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4,534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400" spc="-1" strike="noStrike">
                <a:solidFill>
                  <a:srgbClr val="ffffff"/>
                </a:solidFill>
                <a:latin typeface="Tahoma"/>
              </a:rPr>
              <a:t>92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7 Studen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9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3 Interm.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25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42 Expert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(46%)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251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Cutaway/No or low reserve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No pull/low pull on mai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Others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Other ‘ Fatalities (64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Other Landing Error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ain Mal. – no cutaway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Jumpers striking aircraft in ai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Medical (Heart attacks)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Canopy Collapse near Ground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Reserve mal.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trangulation by reserve riser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24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4% Low Cutawa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Main/Reserve Entangl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13% No/low Main Canopy Activation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Tahoma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84% of the fatalities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40%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35% of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94% of fatalities would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Tahoma"/>
              </a:rPr>
              <a:t>12 of the 92 Fatalities were First Jump Stud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Noticeabl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Report, along with 2001 AAD Report, has been sent by e-mail to all respondents and to all other countries for which we have e-mail addresses.  Hard copie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3-01-29T10:35:12Z</dcterms:modified>
  <cp:revision>7</cp:revision>
  <dc:subject/>
  <dc:title>SAFETY &amp; TRAINING FORUM 25 January 2003</dc:title>
</cp:coreProperties>
</file>