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5.png" ContentType="image/png"/>
  <Override PartName="/ppt/media/image9.png" ContentType="image/png"/>
  <Override PartName="/ppt/media/image17.wmf" ContentType="image/x-wmf"/>
  <Override PartName="/ppt/media/image8.png" ContentType="image/png"/>
  <Override PartName="/ppt/media/image12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3.wmf" ContentType="image/x-wmf"/>
  <Override PartName="/ppt/media/image2.png" ContentType="image/png"/>
  <Override PartName="/ppt/media/image4.jpeg" ContentType="image/jpe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215D8-0449-4C08-BA25-E55D0323C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212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C55DF-F9CB-4F76-A5FD-BB1EF193A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44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21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44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E7B7F-2E92-40EA-BA90-0D682A14C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90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177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2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90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177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DC60D-AD68-416B-B8CF-54AC9071E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CF8D1-08C9-43DA-B178-0B3DFDDBB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1D77B-BD57-4EA0-ACA9-29D704796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44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07EA8-E1C7-4008-9868-3E0E48171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6D527-39B1-4231-84DD-753859D83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989EA-7224-47C2-9B44-C1747F212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44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21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25DB6-A8B7-4602-8D5F-F2A71317B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4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44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C1AC5-C382-4D57-A3B0-6556FA8E7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4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444D1-33F6-4390-A6DD-61878EF4A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2DFA2-07C6-4785-A3DE-82C11A0E6AF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LUX2000" descr=""/>
          <p:cNvPicPr/>
          <p:nvPr/>
        </p:nvPicPr>
        <p:blipFill>
          <a:blip r:embed="rId2"/>
          <a:stretch/>
        </p:blipFill>
        <p:spPr>
          <a:xfrm>
            <a:off x="7391520" y="152280"/>
            <a:ext cx="1295280" cy="126216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762120" y="1600200"/>
            <a:ext cx="7848360" cy="0"/>
          </a:xfrm>
          <a:prstGeom prst="line">
            <a:avLst/>
          </a:prstGeom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849240"/>
            <a:ext cx="685800" cy="324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wmf"/><Relationship Id="rId8" Type="http://schemas.openxmlformats.org/officeDocument/2006/relationships/image" Target="../media/image14.wmf"/><Relationship Id="rId9" Type="http://schemas.openxmlformats.org/officeDocument/2006/relationships/image" Target="../media/image15.png"/><Relationship Id="rId10" Type="http://schemas.openxmlformats.org/officeDocument/2006/relationships/image" Target="../media/image16.png"/><Relationship Id="rId1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1828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LUX2000" descr=""/>
          <p:cNvPicPr/>
          <p:nvPr/>
        </p:nvPicPr>
        <p:blipFill>
          <a:blip r:embed="rId1"/>
          <a:stretch/>
        </p:blipFill>
        <p:spPr>
          <a:xfrm>
            <a:off x="2666880" y="2133720"/>
            <a:ext cx="3810240" cy="37116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6858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ffffff"/>
                </a:solidFill>
                <a:latin typeface="Arial"/>
              </a:rPr>
              <a:t>August 3rd - August 13th, 2000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333cc"/>
                </a:solidFill>
                <a:latin typeface="Arial"/>
              </a:rPr>
              <a:t>The estimated results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Hot Air Balloon European Championship, 198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40.000 vis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Hot Air Airship World Championship, 198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150.000 visitor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17 TV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Hot Air Balloon World Championship, 199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200.000 - 250.000 vis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126 media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316 journali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Hot Air Balloon European Championship, 2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200.000 vis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200 journali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1187280"/>
            <a:ext cx="350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3333cc"/>
                </a:solidFill>
                <a:latin typeface="Arial"/>
              </a:rPr>
              <a:t>based on previous experien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333cc"/>
                </a:solidFill>
                <a:latin typeface="Arial"/>
              </a:rPr>
              <a:t>The Fiesta flying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Entry fee: 500 Euro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includes all propane from August 4th to August 13th, 2000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2 x1:50.000 ma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4 tickets for attending the Welcome Reception so as the Awards Lun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Special conditions for Special shap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Pre-registration: Please send the attached pre-registration document to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Commune Aérostatique du Grand-Duché de Luxembou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BP 2, L-6101 Junglins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The number of Fiesta balloons is limited to 40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As soon as your pre-registration is accepted, we will send you the final registration for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333cc"/>
                </a:solidFill>
                <a:latin typeface="Arial"/>
              </a:rPr>
              <a:t>Welcome to the</a:t>
            </a:r>
            <a:br>
              <a:rPr sz="3200"/>
            </a:br>
            <a:r>
              <a:rPr b="1" lang="fr-FR" sz="3200" spc="-1" strike="noStrike">
                <a:solidFill>
                  <a:srgbClr val="3333cc"/>
                </a:solidFill>
                <a:latin typeface="Arial"/>
              </a:rPr>
              <a:t>Luxembourg Balloon Jamboree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1981080" y="1670040"/>
            <a:ext cx="5562720" cy="48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333cc"/>
                </a:solidFill>
                <a:latin typeface="Arial"/>
              </a:rPr>
              <a:t>Pre-registration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OFFICIAL PILOT ENTRY 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PILOT</a:t>
            </a: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Family name: 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First Name: 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Nationality: 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ddress for correspondence: 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1974960" indent="0"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Tel/Fax numbers: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Email Address: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Hours Pilot in Charge, Hot Air Balloons: 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Type of Pilots Licence: 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Pilots Licence Number: 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Validity: 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Issued by: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333cc"/>
                </a:solidFill>
                <a:latin typeface="Arial"/>
              </a:rPr>
              <a:t>Pre-registration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61760" y="1980720"/>
            <a:ext cx="7848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BALLOON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Name: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Registration: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Make: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Type: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Size:  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Year of Manufacture: __________________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Hours flown: 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Certificate of Registration number: 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Certificate of Airworthiness number: ________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Valid to: 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Insurance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Company: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Third party limit: ___________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Valid to: 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Brief description (advertising, colours, etc): 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PILOT CV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Brief description of experience and achievements in ballooning (Please add a colour pict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of yourself and your balloon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333cc"/>
                </a:solidFill>
                <a:latin typeface="Arial"/>
              </a:rPr>
              <a:t>The organizer’s references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1982, Hot Air Balloon European Championship in Ettelbru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1988, Hot Air Airship World Championship in Walferdange, Mers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1991, Hot Air Airship European Championship in Mondor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1993, Hot Air Balloon World Championship in Meysembou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Organizer: Commune Aérostatique du Grand-Duché de Luxembourg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PO Box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L-6101 Junglins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Grand-Duchy of Luxembou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Phone: (+352) 78 90 75-2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Fax: (+352) 78 90 75-46 and 78 99 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Email: contact@balloon.l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Internet: www.balloon.l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333cc"/>
                </a:solidFill>
                <a:latin typeface="Arial"/>
              </a:rPr>
              <a:t>The event in the year 2000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57913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August 3rd - August 13th, 2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in Meysembourg, Larochette / Mersch, Luxembou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1001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more than 120 ballo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1001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81 of the best european pilots compe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1001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special shapes an a Fiesta program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1001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two flights per day, mornings and evenin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1001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sight-seeing programm for pilots and crew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1001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two weekends of total entertainmen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flights and night glow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parachutists, deltaplanes, kites etc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entertain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349"/>
              </a:spcBef>
              <a:buClr>
                <a:srgbClr val="000000"/>
              </a:buClr>
              <a:buFont typeface="Arial"/>
              <a:buChar char="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400" spc="-1" strike="noStrike">
                <a:solidFill>
                  <a:srgbClr val="000000"/>
                </a:solidFill>
                <a:latin typeface="Arial"/>
              </a:rPr>
              <a:t>bars, restaura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buClr>
                <a:srgbClr val="000000"/>
              </a:buClr>
              <a:buFont typeface="Arial"/>
              <a:buChar char="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400" spc="-1" strike="noStrike">
                <a:solidFill>
                  <a:srgbClr val="000000"/>
                </a:solidFill>
                <a:latin typeface="Arial"/>
              </a:rPr>
              <a:t>the balloon vill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buClr>
                <a:srgbClr val="000000"/>
              </a:buClr>
              <a:buFont typeface="Arial"/>
              <a:buChar char="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400" spc="-1" strike="noStrike">
                <a:solidFill>
                  <a:srgbClr val="000000"/>
                </a:solidFill>
                <a:latin typeface="Arial"/>
              </a:rPr>
              <a:t>concerts, fireworks, show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buClr>
                <a:srgbClr val="000000"/>
              </a:buClr>
              <a:buFont typeface="Arial"/>
              <a:buChar char="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400" spc="-1" strike="noStrike">
                <a:solidFill>
                  <a:srgbClr val="000000"/>
                </a:solidFill>
                <a:latin typeface="Arial"/>
              </a:rPr>
              <a:t>the balloon para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BALLON5" descr=""/>
          <p:cNvPicPr/>
          <p:nvPr/>
        </p:nvPicPr>
        <p:blipFill>
          <a:blip r:embed="rId1"/>
          <a:stretch/>
        </p:blipFill>
        <p:spPr>
          <a:xfrm>
            <a:off x="6248520" y="2438280"/>
            <a:ext cx="2361960" cy="3600720"/>
          </a:xfrm>
          <a:prstGeom prst="rect">
            <a:avLst/>
          </a:prstGeom>
          <a:ln w="0">
            <a:noFill/>
          </a:ln>
          <a:effectLst>
            <a:outerShdw dist="28496" dir="9225519" blurRad="0" rotWithShape="0">
              <a:srgbClr val="00cc99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333cc"/>
                </a:solidFill>
                <a:latin typeface="Arial"/>
              </a:rPr>
              <a:t>The Meysembourg village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28600" y="1905120"/>
            <a:ext cx="86868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333cc"/>
                </a:solidFill>
                <a:latin typeface="Arial"/>
              </a:rPr>
              <a:t>The site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55" name="Site" descr=""/>
          <p:cNvPicPr/>
          <p:nvPr/>
        </p:nvPicPr>
        <p:blipFill>
          <a:blip r:embed="rId1"/>
          <a:stretch/>
        </p:blipFill>
        <p:spPr>
          <a:xfrm>
            <a:off x="228600" y="914400"/>
            <a:ext cx="8686800" cy="548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333cc"/>
                </a:solidFill>
                <a:latin typeface="Arial"/>
              </a:rPr>
              <a:t>The communication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The partner RTL Radio and T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Local Newspaper and Magazine partners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Luxemburger Wort, Telecran and Rev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The international TV coverage by Euros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FAI TV distribution 2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200 international journali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The partner binsfeld-communication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communication consul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The partner Exceed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Internet Presence Provi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BALLON3" descr=""/>
          <p:cNvPicPr/>
          <p:nvPr/>
        </p:nvPicPr>
        <p:blipFill>
          <a:blip r:embed="rId1"/>
          <a:stretch/>
        </p:blipFill>
        <p:spPr>
          <a:xfrm>
            <a:off x="4952880" y="3733920"/>
            <a:ext cx="3733920" cy="2516040"/>
          </a:xfrm>
          <a:prstGeom prst="rect">
            <a:avLst/>
          </a:prstGeom>
          <a:ln w="0">
            <a:noFill/>
          </a:ln>
          <a:effectLst>
            <a:outerShdw dist="52300" dir="836435" blurRad="0" rotWithShape="0">
              <a:srgbClr val="00cc99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5410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333cc"/>
                </a:solidFill>
                <a:latin typeface="Arial"/>
              </a:rPr>
              <a:t>Air sports on the air</a:t>
            </a:r>
            <a:br>
              <a:rPr sz="3200"/>
            </a:br>
            <a:r>
              <a:rPr b="1" lang="fr-FR" sz="3200" spc="-1" strike="noStrike">
                <a:solidFill>
                  <a:srgbClr val="3333cc"/>
                </a:solidFill>
                <a:latin typeface="Arial"/>
              </a:rPr>
              <a:t>FAI 2000’s TV productions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World hang-gliding championship for women, June 00, Boeotia, Gree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European paragliding championship, July 00, Garmisch, German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World aerobatics championship, August 00, Muret-Toulouse, Fr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Hot air balloon European championship, August 00, Luxembou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The world of aeromodelling, highlights on various championshi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25th World parachuting championship in style and accuracy, October 00, Jap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European paragliding championship, July 00, Garmisch, German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6019920" y="552600"/>
            <a:ext cx="1218960" cy="88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333cc"/>
                </a:solidFill>
                <a:latin typeface="Arial"/>
              </a:rPr>
              <a:t>FAI 1999’s TV distribution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Actual programms sales (Nov 1999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 u="sng">
                <a:solidFill>
                  <a:srgbClr val="000000"/>
                </a:solidFill>
                <a:uFillTx/>
                <a:latin typeface="Arial"/>
              </a:rPr>
              <a:t>Europe</a:t>
            </a:r>
            <a:r>
              <a:rPr b="0" lang="fr-FR" sz="16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fr-FR" sz="1600" spc="-1" strike="noStrike" u="sng">
                <a:solidFill>
                  <a:srgbClr val="000000"/>
                </a:solidFill>
                <a:uFillTx/>
                <a:latin typeface="Arial"/>
              </a:rPr>
              <a:t>Asia &amp; Middle East</a:t>
            </a:r>
            <a:r>
              <a:rPr b="0" lang="fr-FR" sz="16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fr-FR" sz="16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fr-FR" sz="1600" spc="-1" strike="noStrike" u="sng">
                <a:solidFill>
                  <a:srgbClr val="000000"/>
                </a:solidFill>
                <a:uFillTx/>
                <a:latin typeface="Arial"/>
              </a:rPr>
              <a:t>North America</a:t>
            </a:r>
            <a:r>
              <a:rPr b="0" lang="fr-FR" sz="16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fr-FR" sz="1600" spc="-1" strike="noStrike" u="sng">
                <a:solidFill>
                  <a:srgbClr val="000000"/>
                </a:solidFill>
                <a:uFillTx/>
                <a:latin typeface="Arial"/>
              </a:rPr>
              <a:t>Inflight vide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914400" y="2743200"/>
            <a:ext cx="1447920" cy="7650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1143000" y="3657600"/>
            <a:ext cx="990720" cy="7477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1143000" y="4724280"/>
            <a:ext cx="990720" cy="7556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2743200" y="4572000"/>
            <a:ext cx="1676520" cy="8380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5"/>
          <a:stretch/>
        </p:blipFill>
        <p:spPr>
          <a:xfrm>
            <a:off x="2666880" y="2743200"/>
            <a:ext cx="1800360" cy="6764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6"/>
          <a:stretch/>
        </p:blipFill>
        <p:spPr>
          <a:xfrm>
            <a:off x="2590920" y="3657600"/>
            <a:ext cx="1904760" cy="6922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705040" y="2424240"/>
            <a:ext cx="23176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7086600" y="2590920"/>
            <a:ext cx="1611360" cy="3897360"/>
            <a:chOff x="7086600" y="2590920"/>
            <a:chExt cx="1611360" cy="3897360"/>
          </a:xfrm>
        </p:grpSpPr>
        <p:pic>
          <p:nvPicPr>
            <p:cNvPr id="72" name="" descr=""/>
            <p:cNvPicPr/>
            <p:nvPr/>
          </p:nvPicPr>
          <p:blipFill>
            <a:blip r:embed="rId7"/>
            <a:stretch/>
          </p:blipFill>
          <p:spPr>
            <a:xfrm>
              <a:off x="7086600" y="2590920"/>
              <a:ext cx="1611360" cy="389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" descr=""/>
            <p:cNvPicPr/>
            <p:nvPr/>
          </p:nvPicPr>
          <p:blipFill>
            <a:blip r:embed="rId8"/>
            <a:stretch/>
          </p:blipFill>
          <p:spPr>
            <a:xfrm>
              <a:off x="7086600" y="2590920"/>
              <a:ext cx="1611360" cy="38973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4" name="" descr=""/>
          <p:cNvPicPr/>
          <p:nvPr/>
        </p:nvPicPr>
        <p:blipFill>
          <a:blip r:embed="rId9"/>
          <a:stretch/>
        </p:blipFill>
        <p:spPr>
          <a:xfrm>
            <a:off x="5410080" y="2819520"/>
            <a:ext cx="1371600" cy="6570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10"/>
          <a:stretch/>
        </p:blipFill>
        <p:spPr>
          <a:xfrm>
            <a:off x="5486400" y="3809880"/>
            <a:ext cx="1295280" cy="8064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5241960" y="2424240"/>
            <a:ext cx="180828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LU" sz="3200" spc="-1" strike="noStrike">
                <a:solidFill>
                  <a:srgbClr val="3333cc"/>
                </a:solidFill>
                <a:latin typeface="Arial"/>
              </a:rPr>
              <a:t>The Internet balloon.lu homepage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1143000" y="1905120"/>
          <a:ext cx="6838920" cy="464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905120"/>
                    <a:ext cx="6838920" cy="464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" name=""/>
          <p:cNvGraphicFramePr/>
          <p:nvPr/>
        </p:nvGraphicFramePr>
        <p:xfrm>
          <a:off x="1362240" y="1501920"/>
          <a:ext cx="6097320" cy="4063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62240" y="1501920"/>
                    <a:ext cx="6097320" cy="406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2" name="" descr=""/>
          <p:cNvPicPr/>
          <p:nvPr/>
        </p:nvPicPr>
        <p:blipFill>
          <a:blip r:embed="rId5"/>
          <a:stretch/>
        </p:blipFill>
        <p:spPr>
          <a:xfrm>
            <a:off x="838080" y="1828800"/>
            <a:ext cx="59436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12T11:33:26Z</dcterms:created>
  <dc:creator>Binsfeld Conseil</dc:creator>
  <dc:description/>
  <dc:language>en-US</dc:language>
  <cp:lastModifiedBy>sauber</cp:lastModifiedBy>
  <cp:lastPrinted>1999-12-27T17:36:52Z</cp:lastPrinted>
  <dcterms:modified xsi:type="dcterms:W3CDTF">1999-12-30T12:20:10Z</dcterms:modified>
  <cp:revision>58</cp:revision>
  <dc:subject/>
  <dc:title>LUXEMBOURG 2000</dc:title>
</cp:coreProperties>
</file>