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310660-50D0-4D4A-BE59-5131AD2610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6E3A2-584E-48FD-9C53-CC9355A52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FA1011-875C-43D0-802E-37EA68B01D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9BAE7E-FBB9-4566-AE8A-1259709438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04BAFE-333A-47A8-9A42-823B859C6E4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A5ADF8-7B06-4970-AA37-AC7F439187C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C07EEB-73F7-48CD-812E-55C98581880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216818-333C-4F18-90CC-75E461E5FDF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3640A9-CF3B-41A0-B4DC-F0913AB78A8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03BB61-D9B5-4797-AC1B-3D60E6D7F18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94B0F9-A976-41B9-8BBF-6FE1EC98CFB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1C939-5D0F-4E67-A71D-F0C88CED9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04E6C8-0E2C-4239-90E9-8B09070D2A2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ED7FA1-1201-46B0-A11E-727A6189681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D3760F-D3FE-4EC9-9F61-666B9C3AF6F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DB3A6D-11D5-4DFB-B96C-CCB0419D9D0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B8D9D42-DCB8-486F-B712-A42837C8F43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63486-D769-4110-9E0E-9710FA3F8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BB03E-ACFE-4290-AF41-36373513C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03BBA-ABE3-4FB5-91FB-1198DFEA6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91B5F-2761-460B-BCBD-CA0CE4010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F2735-6247-407F-BED4-E0CC07C38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F4249-DFAF-4384-AC45-B5C343908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90C11-D73B-446A-B206-66BCFDBAD9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8D984-2059-4BA2-AE6C-55D47A4F423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F53C9-E9FF-41E7-A3A1-7240E98448C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Committee Report Summ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104" name=""/>
          <p:cNvGraphicFramePr/>
          <p:nvPr/>
        </p:nvGraphicFramePr>
        <p:xfrm>
          <a:off x="457200" y="1905120"/>
          <a:ext cx="8229600" cy="4705200"/>
        </p:xfrm>
        <a:graphic>
          <a:graphicData uri="http://schemas.openxmlformats.org/presentationml/2006/ole">
            <p:oleObj r:id="rId2" spid="">
              <p:embed/>
              <p:pic>
                <p:nvPicPr>
                  <p:cNvPr id="105"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a:t>
            </a:r>
            <a:r>
              <a:rPr b="0" lang="en-US" sz="3200" spc="-1" strike="noStrike">
                <a:solidFill>
                  <a:srgbClr val="ffcc00"/>
                </a:solidFill>
                <a:latin typeface="Tahoma"/>
              </a:rPr>
              <a:t>effect</a:t>
            </a:r>
            <a:r>
              <a:rPr b="0" lang="en-US" sz="3200" spc="-1" strike="noStrike">
                <a:solidFill>
                  <a:srgbClr val="ffffff"/>
                </a:solidFill>
                <a:latin typeface="Tahoma"/>
              </a:rPr>
              <a:t> on the direction of the balloon?</a:t>
            </a:r>
            <a:endParaRPr b="0" lang="en-US" sz="3200" spc="-1" strike="noStrike">
              <a:solidFill>
                <a:srgbClr val="ffffff"/>
              </a:solidFill>
              <a:latin typeface="Tahoma"/>
            </a:endParaRPr>
          </a:p>
        </p:txBody>
      </p:sp>
      <p:graphicFrame>
        <p:nvGraphicFramePr>
          <p:cNvPr id="107" name=""/>
          <p:cNvGraphicFramePr/>
          <p:nvPr/>
        </p:nvGraphicFramePr>
        <p:xfrm>
          <a:off x="457200" y="1905120"/>
          <a:ext cx="8229600" cy="4705200"/>
        </p:xfrm>
        <a:graphic>
          <a:graphicData uri="http://schemas.openxmlformats.org/presentationml/2006/ole">
            <p:oleObj r:id="rId2" spid="">
              <p:embed/>
              <p:pic>
                <p:nvPicPr>
                  <p:cNvPr id="108"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urning Vents</a:t>
            </a:r>
            <a:endParaRPr b="0" lang="en-US" sz="4400" spc="-1" strike="noStrike">
              <a:solidFill>
                <a:srgbClr val="ffffff"/>
              </a:solidFill>
              <a:latin typeface="Tahoma"/>
            </a:endParaRPr>
          </a:p>
        </p:txBody>
      </p:sp>
      <p:sp>
        <p:nvSpPr>
          <p:cNvPr id="1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agreed that no action was necessary at this tim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CAT1 AX Team Championships</a:t>
            </a:r>
            <a:endParaRPr b="0" lang="en-US" sz="4000" spc="-1" strike="noStrike">
              <a:solidFill>
                <a:srgbClr val="ffffff"/>
              </a:solidFill>
              <a:latin typeface="Tahoma"/>
            </a:endParaRPr>
          </a:p>
        </p:txBody>
      </p:sp>
      <p:sp>
        <p:nvSpPr>
          <p:cNvPr id="11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surveyed about holding CAT 1 Team Championship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countries have already run this type of event, where tasks are specifically designed to accommodate team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114" name=""/>
          <p:cNvGraphicFramePr/>
          <p:nvPr/>
        </p:nvGraphicFramePr>
        <p:xfrm>
          <a:off x="457200" y="1905120"/>
          <a:ext cx="8229600" cy="4647960"/>
        </p:xfrm>
        <a:graphic>
          <a:graphicData uri="http://schemas.openxmlformats.org/presentationml/2006/ole">
            <p:oleObj r:id="rId2" spid="">
              <p:embed/>
              <p:pic>
                <p:nvPicPr>
                  <p:cNvPr id="115"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117" name=""/>
          <p:cNvGraphicFramePr/>
          <p:nvPr/>
        </p:nvGraphicFramePr>
        <p:xfrm>
          <a:off x="457200" y="1905120"/>
          <a:ext cx="8229600" cy="4686120"/>
        </p:xfrm>
        <a:graphic>
          <a:graphicData uri="http://schemas.openxmlformats.org/presentationml/2006/ole">
            <p:oleObj r:id="rId2" spid="">
              <p:embed/>
              <p:pic>
                <p:nvPicPr>
                  <p:cNvPr id="118"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EAM Championships</a:t>
            </a:r>
            <a:endParaRPr b="0" lang="en-US" sz="4400" spc="-1" strike="noStrike">
              <a:solidFill>
                <a:srgbClr val="ffffff"/>
              </a:solidFill>
              <a:latin typeface="Tahoma"/>
            </a:endParaRPr>
          </a:p>
        </p:txBody>
      </p:sp>
      <p:sp>
        <p:nvSpPr>
          <p:cNvPr id="12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The CSC supports the development of Team Championships.  At this time it is too soon to ask for a World Championship to be created.  The better approach is to:</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hare information from those NACs that have already hosted Team Events</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Encourage the development of CAT 1 events to let pilots experience this type of competition</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Based on these ‘trial’ events, develop a set of Model Event Rules (MER)</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n, seek authorization from the Plenary of Continental and/or World Championships</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ditionally it was noted that Team Events are ideal for mentoring new competitor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Minimum Size of Marker Scoring Areas</a:t>
            </a:r>
            <a:endParaRPr b="0" lang="en-US" sz="40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size (only markers in this area would be measured and valid) how large should the radius be? </a:t>
            </a:r>
            <a:endParaRPr b="0" lang="en-US" sz="2400" spc="-1" strike="noStrike">
              <a:solidFill>
                <a:srgbClr val="ffffff"/>
              </a:solidFill>
              <a:latin typeface="Tahoma"/>
            </a:endParaRPr>
          </a:p>
        </p:txBody>
      </p:sp>
      <p:graphicFrame>
        <p:nvGraphicFramePr>
          <p:cNvPr id="124" name=""/>
          <p:cNvGraphicFramePr/>
          <p:nvPr/>
        </p:nvGraphicFramePr>
        <p:xfrm>
          <a:off x="457200" y="1905120"/>
          <a:ext cx="8229600" cy="4800600"/>
        </p:xfrm>
        <a:graphic>
          <a:graphicData uri="http://schemas.openxmlformats.org/presentationml/2006/ole">
            <p:oleObj r:id="rId2" spid="">
              <p:embed/>
              <p:pic>
                <p:nvPicPr>
                  <p:cNvPr id="125"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Minimum Size of Marker Scoring Areas</a:t>
            </a:r>
            <a:endParaRPr b="0" lang="en-US" sz="40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ffff"/>
                </a:solidFill>
                <a:uFillTx/>
                <a:latin typeface="Tahoma"/>
              </a:rPr>
              <a:t>The CSC will ask the AX Working Group to provide guidance to Event Directors to make the minimum radius of each MSA at least 100m wherever possib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 CSC Roll Call</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4038480" cy="441936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Committee Members Presen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USA)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avid Bareford (UK)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eter Olsson (SW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we Schneider (GER)</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World Ranking List Keepers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we Schneider (G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Gerald Sturzlinger (AU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Observer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2 observers presen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87"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ommittee Members </a:t>
            </a:r>
            <a:r>
              <a:rPr b="0" i="1" lang="en-US" sz="2000" spc="-1" strike="noStrike">
                <a:solidFill>
                  <a:srgbClr val="ffcc00"/>
                </a:solidFill>
                <a:latin typeface="Tahoma"/>
              </a:rPr>
              <a:t>Not</a:t>
            </a:r>
            <a:r>
              <a:rPr b="0" lang="en-US" sz="2000" spc="-1" strike="noStrike">
                <a:solidFill>
                  <a:srgbClr val="ffcc00"/>
                </a:solidFill>
                <a:latin typeface="Tahoma"/>
              </a:rPr>
              <a:t> Presen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gel Aguirre (ESP)</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lan Blount (USA)  - Chairma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Task Evaluations</a:t>
            </a:r>
            <a:endParaRPr b="0" lang="en-US" sz="44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evaluate the Tasks contained in the MER and MER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31" name=""/>
          <p:cNvGraphicFramePr/>
          <p:nvPr/>
        </p:nvGraphicFramePr>
        <p:xfrm>
          <a:off x="152280" y="914400"/>
          <a:ext cx="8839440" cy="5724360"/>
        </p:xfrm>
        <a:graphic>
          <a:graphicData uri="http://schemas.openxmlformats.org/presentationml/2006/ole">
            <p:oleObj r:id="rId2" spid="">
              <p:embed/>
              <p:pic>
                <p:nvPicPr>
                  <p:cNvPr id="132"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3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2" marL="1143000" indent="-22860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e that two of these three are in declining use in non-Observer event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13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38" name=""/>
          <p:cNvGraphicFramePr/>
          <p:nvPr/>
        </p:nvGraphicFramePr>
        <p:xfrm>
          <a:off x="152280" y="914400"/>
          <a:ext cx="8839440" cy="5724360"/>
        </p:xfrm>
        <a:graphic>
          <a:graphicData uri="http://schemas.openxmlformats.org/presentationml/2006/ole">
            <p:oleObj r:id="rId2" spid="">
              <p:embed/>
              <p:pic>
                <p:nvPicPr>
                  <p:cNvPr id="13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recommended to be removed from CAT 1 Events</a:t>
            </a:r>
            <a:endParaRPr b="0" lang="en-US" sz="40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143" name=""/>
          <p:cNvGraphicFramePr/>
          <p:nvPr/>
        </p:nvGraphicFramePr>
        <p:xfrm>
          <a:off x="152280" y="914400"/>
          <a:ext cx="8839440" cy="5724360"/>
        </p:xfrm>
        <a:graphic>
          <a:graphicData uri="http://schemas.openxmlformats.org/presentationml/2006/ole">
            <p:oleObj r:id="rId2" spid="">
              <p:embed/>
              <p:pic>
                <p:nvPicPr>
                  <p:cNvPr id="14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s</a:t>
            </a:r>
            <a:endParaRPr b="0" lang="en-US" sz="4400" spc="-1" strike="noStrike">
              <a:solidFill>
                <a:srgbClr val="ffffff"/>
              </a:solidFill>
              <a:latin typeface="Tahoma"/>
            </a:endParaRPr>
          </a:p>
        </p:txBody>
      </p:sp>
      <p:sp>
        <p:nvSpPr>
          <p:cNvPr id="14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The CSC felt it was premature to ask for the 3-D task to be removed from the MERG, but approved the following action:</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ahoma"/>
              </a:rPr>
              <a:t>The CSC will ask the AX-Working Group to consider the survey results and provide guidance to Event Directors regarding how/when to best use each type of task with particular attention to 3-D tasks.</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4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world Ranking List Keepers proposed a revision to the formula in order to encourage better participation by NACs submitting their individual Nation’s data.</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current formula includes data from each NAC that is retained in the calculations for several years.  As each year passes, the existing data is ‘aged’ by decreasing its ‘weight’ by 5% each year.  </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proposal was presented such that this ‘aging’ of NAC data would be increased to 20%  for each NAC that did not submit data for the current year.  That is to say, today’s current data would be aged by 20% after 1 year, 40% after 2 years, 60% after 3 years, etc).</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policy would encourage participation leading to a more accurate Ranking Lis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A Motion was proposed and seconded:  </a:t>
            </a:r>
            <a:r>
              <a:rPr b="1" i="1" lang="en-GB" sz="3200" spc="-1" strike="noStrike">
                <a:solidFill>
                  <a:srgbClr val="ffcc00"/>
                </a:solidFill>
                <a:latin typeface="Tahoma"/>
              </a:rPr>
              <a:t>That the CSC accept this change to the ranking formula effective immediatel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Motion passe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2) EDS Interaction</a:t>
            </a: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ex Nagorski joined the meeting to provide feedback about EDS activiti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A concern was raised that the WRL formula favors European countries versus more geographically isolated countries such as Japan, USA, Australia, etc.</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A description of the formula was given, showing that this is NOT the case.</a:t>
            </a:r>
            <a:endParaRPr b="0" lang="en-US" sz="24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Ranking List is created from the following data sources</a:t>
            </a:r>
            <a:endParaRPr b="0" lang="en-US" sz="24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orld Championships</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orld Air Games</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National Ranking Data (from each NAC that submits data)</a:t>
            </a:r>
            <a:endParaRPr b="0" lang="en-US" sz="20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lead to a discussion about how the 2009 World Air Games could bias the World Ranking List, given the limited number of AX competitors in the Gam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The following motion was proposed and seconded: </a:t>
            </a:r>
            <a:r>
              <a:rPr b="1" i="1" lang="en-GB" sz="2000" spc="-1" strike="noStrike">
                <a:solidFill>
                  <a:srgbClr val="ffcc00"/>
                </a:solidFill>
                <a:latin typeface="Tahoma"/>
              </a:rPr>
              <a:t>The results of the 2009 World Air Games should not be used in the World Ranking List formula because of limited number of competitor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Motion passed</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Further the following motion was proposed and seconded:  </a:t>
            </a:r>
            <a:r>
              <a:rPr b="1" i="1" lang="en-GB" sz="2000" spc="-1" strike="noStrike">
                <a:solidFill>
                  <a:srgbClr val="ffcc00"/>
                </a:solidFill>
                <a:latin typeface="Tahoma"/>
              </a:rPr>
              <a:t>The CSC and World Ranking List Keepers should develop criteria for including World Air Game Results in future ranking lists calculation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Motion Passed</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It was also suggested that the CSC develop an appropriate method for ‘weighting’ the data provided by each NAC based on the number of pilots represented in that dat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Budget Proposal for Surveys</a:t>
            </a:r>
            <a:endParaRPr b="0" lang="en-US" sz="4400" spc="-1" strike="noStrike">
              <a:solidFill>
                <a:srgbClr val="ffffff"/>
              </a:solidFill>
              <a:latin typeface="Tahoma"/>
            </a:endParaRPr>
          </a:p>
        </p:txBody>
      </p:sp>
      <p:sp>
        <p:nvSpPr>
          <p:cNvPr id="15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electronic survey was discussed, including its current limitations.  In order to fulfil its mission the CSC would like to make greater use of the survey software to provide more meaningful feedback to the CIA.</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The following motion was proposed and seconded: </a:t>
            </a:r>
            <a:r>
              <a:rPr b="1" i="1" lang="en-GB" sz="2400" spc="-1" strike="noStrike">
                <a:solidFill>
                  <a:srgbClr val="ffcc00"/>
                </a:solidFill>
                <a:latin typeface="Tahoma"/>
              </a:rPr>
              <a:t>The CSC will present a motion to Plenary requesting annual funding of $200 (USD) from the CIA to cover the subscription to the online survey software</a:t>
            </a:r>
            <a:r>
              <a:rPr b="1" i="1" lang="en-GB"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Motion passed</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This motion is restated later in this repor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Other Business</a:t>
            </a:r>
            <a:endParaRPr b="0" lang="en-US" sz="4400" spc="-1" strike="noStrike">
              <a:solidFill>
                <a:srgbClr val="ffffff"/>
              </a:solidFill>
              <a:latin typeface="Tahoma"/>
            </a:endParaRPr>
          </a:p>
        </p:txBody>
      </p:sp>
      <p:sp>
        <p:nvSpPr>
          <p:cNvPr id="15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n observer at the meeting raised a concern about over-lapping CAT1 events.  This issue was discussed within the CSC and briefly with the Chairman of the ED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Tahoma"/>
              </a:rPr>
              <a:t>The following action was agreed upon:  </a:t>
            </a:r>
            <a:r>
              <a:rPr b="0" lang="en-GB" sz="2800" spc="-1" strike="noStrike" u="sng">
                <a:solidFill>
                  <a:srgbClr val="ffcc00"/>
                </a:solidFill>
                <a:uFillTx/>
                <a:latin typeface="Tahoma"/>
              </a:rPr>
              <a:t>That the CSC ask EDS to better ensure that sanctioned events not overlap</a:t>
            </a:r>
            <a:r>
              <a:rPr b="0" lang="en-GB" sz="2800" spc="-1" strike="noStrike" u="sng">
                <a:solidFill>
                  <a:srgbClr val="ffffff"/>
                </a:solidFill>
                <a:uFillTx/>
                <a:latin typeface="Tahoma"/>
              </a:rPr>
              <a:t>.</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e recognize that this is a difficult task, so it was further suggested that the CSC and other working groups discuss ways to reduce the risk of overlapping CAT 1 ev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2)  New Committee Structure</a:t>
            </a:r>
            <a:endParaRPr b="0" lang="en-US" sz="4400" spc="-1" strike="noStrike">
              <a:solidFill>
                <a:srgbClr val="ffffff"/>
              </a:solidFill>
              <a:latin typeface="Tahoma"/>
            </a:endParaRPr>
          </a:p>
        </p:txBody>
      </p:sp>
      <p:sp>
        <p:nvSpPr>
          <p:cNvPr id="16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Tahoma"/>
              </a:rPr>
              <a:t>2009/2010 CSC and WG Members, CSC Chair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Committee Members for 2009/2010</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USA) – Chairma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avid Bareford (UK)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eter Olsson (SW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omas Fink (G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Gerald Sturzlinger (AU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Alan Blount (US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was nominated to Chair the committee and accepted the Nomination.  Alan Blount (former chair) had indicated his desire to step down from that posi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3) Use of Observers</a:t>
            </a:r>
            <a:endParaRPr b="0" lang="en-US" sz="4400" spc="-1" strike="noStrike">
              <a:solidFill>
                <a:srgbClr val="ffffff"/>
              </a:solidFill>
              <a:latin typeface="Tahoma"/>
            </a:endParaRPr>
          </a:p>
        </p:txBody>
      </p:sp>
      <p:sp>
        <p:nvSpPr>
          <p:cNvPr id="162"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e CSC was asked via the German Delegate to reconsider last year’s motion requiring Observers at World Championships after 2012</a:t>
            </a:r>
            <a:endParaRPr b="0" lang="en-US" sz="3200" spc="-1" strike="noStrike">
              <a:solidFill>
                <a:srgbClr val="ffffff"/>
              </a:solidFill>
              <a:latin typeface="Tahoma"/>
            </a:endParaRPr>
          </a:p>
          <a:p>
            <a:pPr lvl="1" marL="727920" indent="-280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ubject was discussed at length including</a:t>
            </a:r>
            <a:endParaRPr b="0" lang="en-US" sz="28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etitor needs and requirements for ‘meaningful’ competition</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st concerns by event organizers</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gistics and availability of Observers</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arious other issues</a:t>
            </a:r>
            <a:endParaRPr b="0" lang="en-US" sz="2400" spc="-1" strike="noStrike">
              <a:solidFill>
                <a:srgbClr val="ffffff"/>
              </a:solidFill>
              <a:latin typeface="Tahoma"/>
            </a:endParaRPr>
          </a:p>
          <a:p>
            <a:pPr lvl="2" marL="1119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64" name="PlaceHolder 2"/>
          <p:cNvSpPr>
            <a:spLocks noGrp="1"/>
          </p:cNvSpPr>
          <p:nvPr>
            <p:ph/>
          </p:nvPr>
        </p:nvSpPr>
        <p:spPr>
          <a:xfrm>
            <a:off x="457200" y="1904760"/>
            <a:ext cx="8229600" cy="4647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It was noted that Observers add value to an event that cannot currently be duplicated by loggers</a:t>
            </a:r>
            <a:endParaRPr b="0" lang="en-US" sz="28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bservers facilitate important types of tasks such as Pilot Declared Goals (PDG), Fly On Tasks (FON), and other tasks where goal declarations need to be made immediately prior to or during fligh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2008 Pilot Survey clearly showed that competitors strongly favor the use of Observe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2009 Pilot Survey clearly showed that the types of tasks facilitated by Observers (e.g. PDG and FON) are among the important competitive task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6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6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urrently there is no viable and widely tested alternative exists for using PDG and FON tasks in an equivalent way to using Observer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Observers provide information that can never be obtained by a logger such a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hecking for intermediate ground contac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bserving proper behaviour of the cre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bserving proper Land Owner Relatio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7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istory has shown that Observers often go on to become pilots, and it is obvious that encouraging future pilots is essential to the future growth of this spor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CSC Pilot Survey </a:t>
            </a:r>
            <a:endParaRPr b="0" lang="en-US" sz="4400" spc="-1" strike="noStrike">
              <a:solidFill>
                <a:srgbClr val="ffffff"/>
              </a:solidFill>
              <a:latin typeface="Tahoma"/>
            </a:endParaRPr>
          </a:p>
        </p:txBody>
      </p:sp>
      <p:sp>
        <p:nvSpPr>
          <p:cNvPr id="9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e Survey results were discussed under several agenda items which follow</a:t>
            </a:r>
            <a:endParaRPr b="0" lang="en-US" sz="32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2" marL="1097280" indent="-21924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2" marL="1097280" indent="-21924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3" marL="1536120" indent="-21924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motion will be presented later seeking funding that will allow more detailed surveys and better data collec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 Decision</a:t>
            </a:r>
            <a:endParaRPr b="0" lang="en-US" sz="4400" spc="-1" strike="noStrike">
              <a:solidFill>
                <a:srgbClr val="ffffff"/>
              </a:solidFill>
              <a:latin typeface="Tahoma"/>
            </a:endParaRPr>
          </a:p>
        </p:txBody>
      </p:sp>
      <p:sp>
        <p:nvSpPr>
          <p:cNvPr id="17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CSC reaffirmed support of the motion passed in 2008 requiring the use of Observers in World Championships after 2011.</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CSC and the majority of competitors it represents believe the use of Observers in top level competition provides for better and more demanding competition for the reasons described earli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s</a:t>
            </a:r>
            <a:endParaRPr b="0" lang="en-US" sz="4400" spc="-1" strike="noStrike">
              <a:solidFill>
                <a:srgbClr val="ffffff"/>
              </a:solidFill>
              <a:latin typeface="Tahoma"/>
            </a:endParaRPr>
          </a:p>
        </p:txBody>
      </p:sp>
      <p:sp>
        <p:nvSpPr>
          <p:cNvPr id="17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discussed ways to facilitate the use of Observers and plans on-going development in this area and is willing to continue work in this are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 Motion</a:t>
            </a:r>
            <a:endParaRPr b="0" lang="en-US" sz="4400" spc="-1" strike="noStrike">
              <a:solidFill>
                <a:srgbClr val="ffffff"/>
              </a:solidFill>
              <a:latin typeface="Tahoma"/>
            </a:endParaRPr>
          </a:p>
        </p:txBody>
      </p:sp>
      <p:sp>
        <p:nvSpPr>
          <p:cNvPr id="176"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The following committee Motion was proposed and seconded: </a:t>
            </a:r>
            <a:endParaRPr b="0" lang="en-US" sz="3200" spc="-1" strike="noStrike">
              <a:solidFill>
                <a:srgbClr val="ffffff"/>
              </a:solidFill>
              <a:latin typeface="Tahoma"/>
            </a:endParaRPr>
          </a:p>
          <a:p>
            <a:pPr lvl="1" marL="743040" indent="-28584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cc00"/>
                </a:solidFill>
                <a:latin typeface="Tahoma"/>
              </a:rPr>
              <a:t>The CSC  will present a motion to the Plenary proposing that the use of Observers be required at future Continental AX Championships after 2011.</a:t>
            </a:r>
            <a:endParaRPr b="0" lang="en-US" sz="28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The motion passed</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this motion is re-stated at the end of this repor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7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he CSC encourages the use and development of appropriate technology to further the sport.</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However, such technology must be an equivalent or better solution to current methods, and must be proven to be sufficiently reliable prior to full adopt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Loggers must provide sufficient scoring accuracy before replacing Observer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Currently these needs are not satisfi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8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he feedback from pilots is that logger-only events with currently available technology have significant problems (a few are listed below):</a:t>
            </a:r>
            <a:endParaRPr b="0" lang="en-US" sz="28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n many cases an important element of competition – strategy – is missing from many tasks.</a:t>
            </a:r>
            <a:endParaRPr b="0" lang="en-US" sz="24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petition directors have fewer options for calling tasks – especially in difficult weather conditions.</a:t>
            </a:r>
            <a:endParaRPr b="0" lang="en-US" sz="2400" spc="-1" strike="noStrike">
              <a:solidFill>
                <a:srgbClr val="ffffff"/>
              </a:solidFill>
              <a:latin typeface="Tahoma"/>
            </a:endParaRPr>
          </a:p>
          <a:p>
            <a:pPr lvl="2" marL="1108440" indent="-221400">
              <a:lnSpc>
                <a:spcPct val="8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his leads to greater repetition of a small number of simpler task types</a:t>
            </a:r>
            <a:endParaRPr b="0" lang="en-US" sz="20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petitors are now forced to focus more on their weather forecasting skills rather than their piloting or strategic skills.</a:t>
            </a:r>
            <a:endParaRPr b="0" lang="en-US" sz="24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Problems still exist with logger reliability – including double failures (2008 Worlds)</a:t>
            </a:r>
            <a:endParaRPr b="0" lang="en-US" sz="2400" spc="-1" strike="noStrike">
              <a:solidFill>
                <a:srgbClr val="ffffff"/>
              </a:solidFill>
              <a:latin typeface="Tahoma"/>
            </a:endParaRPr>
          </a:p>
          <a:p>
            <a:pPr lvl="1" marL="72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8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ho are we running these events for – the competitors or the organize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e need to remember that the purpose of these events is to allow </a:t>
            </a:r>
            <a:r>
              <a:rPr b="0" lang="en-US" sz="2400" spc="-1" strike="noStrike" u="sng">
                <a:solidFill>
                  <a:srgbClr val="ffcc00"/>
                </a:solidFill>
                <a:uFillTx/>
                <a:latin typeface="Tahoma"/>
              </a:rPr>
              <a:t>meaningful competition</a:t>
            </a:r>
            <a:r>
              <a:rPr b="0" lang="en-US" sz="2400" spc="-1" strike="noStrike">
                <a:solidFill>
                  <a:srgbClr val="ffcc00"/>
                </a:solidFill>
                <a:latin typeface="Tahoma"/>
              </a:rPr>
              <a:t> amongst aviato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f competitors lose interest in the style of competition we run, we risk having the best competitors not show up which will </a:t>
            </a:r>
            <a:r>
              <a:rPr b="0" lang="en-US" sz="2400" spc="-1" strike="noStrike" u="sng">
                <a:solidFill>
                  <a:srgbClr val="ffcc00"/>
                </a:solidFill>
                <a:uFillTx/>
                <a:latin typeface="Tahoma"/>
              </a:rPr>
              <a:t>devalue</a:t>
            </a:r>
            <a:r>
              <a:rPr b="0" lang="en-US" sz="2400" spc="-1" strike="noStrike">
                <a:solidFill>
                  <a:srgbClr val="ffcc00"/>
                </a:solidFill>
                <a:latin typeface="Tahoma"/>
              </a:rPr>
              <a:t> any championship.</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e know that competitors and Event Organizers must work together for the future of our sport, but we must not sacrifice meaningful and satisfying competi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3) Restatement of Proposed Motions before the Plenary</a:t>
            </a:r>
            <a:endParaRPr b="0" lang="en-US" sz="4000" spc="-1" strike="noStrike">
              <a:solidFill>
                <a:srgbClr val="ffffff"/>
              </a:solidFill>
              <a:latin typeface="Tahoma"/>
            </a:endParaRPr>
          </a:p>
        </p:txBody>
      </p:sp>
      <p:sp>
        <p:nvSpPr>
          <p:cNvPr id="18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CSC Proposed Motion 1: </a:t>
            </a:r>
            <a:r>
              <a:rPr b="1" i="1" lang="en-GB" sz="2800" spc="-1" strike="noStrike">
                <a:solidFill>
                  <a:srgbClr val="ffcc00"/>
                </a:solidFill>
                <a:latin typeface="Tahoma"/>
              </a:rPr>
              <a:t>The use of Observers will be required at future Continental AX Championships held after 2011.</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CSC proposed Motion 2: </a:t>
            </a:r>
            <a:r>
              <a:rPr b="1" i="1" lang="en-GB" sz="2800" spc="-1" strike="noStrike">
                <a:solidFill>
                  <a:srgbClr val="ffcc00"/>
                </a:solidFill>
                <a:latin typeface="Tahoma"/>
              </a:rPr>
              <a:t>That the CIA will grant annual funding in the amount of  $200 (USD) to pay subscription cost of the online survey softwa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SC Committee Report</a:t>
            </a:r>
            <a:endParaRPr b="0" lang="en-US" sz="4400" spc="-1" strike="noStrike">
              <a:solidFill>
                <a:srgbClr val="ffffff"/>
              </a:solidFill>
              <a:latin typeface="Tahoma"/>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1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Pilot’s Survey Resul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mber of Responses </a:t>
            </a:r>
            <a:endParaRPr b="0" lang="en-US" sz="4400" spc="-1" strike="noStrike">
              <a:solidFill>
                <a:srgbClr val="ffffff"/>
              </a:solidFill>
              <a:latin typeface="Tahoma"/>
            </a:endParaRPr>
          </a:p>
        </p:txBody>
      </p:sp>
      <p:sp>
        <p:nvSpPr>
          <p:cNvPr id="1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we can approve the ($200) budget to buy a subscription to the survey we can collect geographic information in futu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a) Recommended number of pilots at World Championships</a:t>
            </a:r>
            <a:endParaRPr b="0" lang="en-US" sz="4000" spc="-1" strike="noStrike">
              <a:solidFill>
                <a:srgbClr val="ffffff"/>
              </a:solidFill>
              <a:latin typeface="Tahoma"/>
            </a:endParaRPr>
          </a:p>
        </p:txBody>
      </p:sp>
      <p:sp>
        <p:nvSpPr>
          <p:cNvPr id="9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what is the ideal number of competitors’ at World Championships.</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ata showed that in general events should not be smaller than 100.</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The CSC agreed that no actions or recommendations were necessary at this time. </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CSC will research this issue further. It was noted that the Safety Sub Committee had discussed the effect of the number of pilots on event safety.</a:t>
            </a:r>
            <a:r>
              <a:rPr b="0" lang="en-US" sz="2800" spc="-1" strike="noStrike">
                <a:solidFill>
                  <a:srgbClr val="ffffff"/>
                </a:solidFill>
                <a:latin typeface="Tahoma"/>
              </a:rPr>
              <a:t> </a:t>
            </a:r>
            <a:endParaRPr b="0" lang="en-US" sz="2800" spc="-1" strike="noStrike">
              <a:solidFill>
                <a:srgbClr val="ffffff"/>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192" name=""/>
          <p:cNvGraphicFramePr/>
          <p:nvPr/>
        </p:nvGraphicFramePr>
        <p:xfrm>
          <a:off x="457200" y="1909800"/>
          <a:ext cx="8194680" cy="4638600"/>
        </p:xfrm>
        <a:graphic>
          <a:graphicData uri="http://schemas.openxmlformats.org/presentationml/2006/ole">
            <p:oleObj r:id="rId2" spid="">
              <p:embed/>
              <p:pic>
                <p:nvPicPr>
                  <p:cNvPr id="193"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1)</a:t>
            </a:r>
            <a:endParaRPr b="0" lang="en-US" sz="3200" spc="-1" strike="noStrike">
              <a:solidFill>
                <a:srgbClr val="ffffff"/>
              </a:solidFill>
              <a:latin typeface="Tahoma"/>
            </a:endParaRPr>
          </a:p>
        </p:txBody>
      </p:sp>
      <p:sp>
        <p:nvSpPr>
          <p:cNvPr id="1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dependent on the fact I am male, results should be compared in total. Create sub-Championship category in the regular Championship for any kind of competitor - Ladies, Seniors etc...</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up to the women to decide but I understand that most are not in favour.</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men and women can compete on a 'level playing field'.  Women are not of a lesser standard and there is no reason to separate them</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favorable although think it is a great oportunity for our sport to have male and female competing at same level. No discrimination at all and has always worked.</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physical abilities are not a factor - especially at CAT 1 events where gravity marker drops are used the majority (or all) of the time.  However, if it was felt that such an event would serve to increase female participation in a way that would not otherwise be possible, then I would favor it.</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xual equality!</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sult to capabilities of women - or are men afraid that there would be a female champion.</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 course like in other airsports.</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an event like this would be well attended and a positive experience.  However, a lot of the female pilots I talk to would rather not have a seperate championship.  Saying that they would rather compete in a championship that invited the best men and women of the spor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is might create for more interest in the sport and ultimately get more people involved.</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ore competition the better</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nk they are capabl of competing at the regular level with everyone el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very few sports where men and women compete equally.  I flew in all the first few women's world championships and while it was great to have won 4 of them, it felt much better to have come in the top 10 in the open world championship than 1st in the Womens.  However, a women's world championship has the potential of encouraging more women into the sport (but I doubt i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is a sport where we're all on a level playing field.  The creation of this event should only be done if the female gender population is asking for it and not for another organizer to profit from its participants and title.  I've not heard of any desire to have such an event from the female pilots I know.</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feel that there are a number of sports in which women can compete on equal terms. Ballooning is one of them and so, to hold a separate event, dilutes the effectiveness of the inclusive nature of the spor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see no sense in a women's world championship, because in ballooning it doesn't matter if you are male or female.  I see only "political" reasons to have such a new category.</a:t>
            </a:r>
            <a:endParaRPr b="0" lang="en-US" sz="1600" spc="-1" strike="noStrike">
              <a:solidFill>
                <a:srgbClr val="ffffff"/>
              </a:solidFill>
              <a:latin typeface="Tahoma"/>
            </a:endParaRPr>
          </a:p>
        </p:txBody>
      </p:sp>
      <p:sp>
        <p:nvSpPr>
          <p:cNvPr id="197"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3)</a:t>
            </a:r>
            <a:endParaRPr b="0" lang="en-US" sz="3200" spc="-1" strike="noStrike">
              <a:solidFill>
                <a:srgbClr val="ffffff"/>
              </a:solidFill>
              <a:latin typeface="Tahoma"/>
            </a:endParaRPr>
          </a:p>
        </p:txBody>
      </p:sp>
      <p:sp>
        <p:nvSpPr>
          <p:cNvPr id="199" name="PlaceHolder 2"/>
          <p:cNvSpPr>
            <a:spLocks noGrp="1"/>
          </p:cNvSpPr>
          <p:nvPr>
            <p:ph/>
          </p:nvPr>
        </p:nvSpPr>
        <p:spPr>
          <a:xfrm>
            <a:off x="457200" y="1828800"/>
            <a:ext cx="8229600" cy="419112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would be great if enough women are interested to have competitions.  It raises an interesting point, however.  Women do regularly compete with men, and it is conceivable a woman could win a World Championship.  Could a man compete in a 'woman's hot air balloon world championship'?</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ecision by CIA was merely to allow women only events.  Women only championships should be held only if women competitors want the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my opinion, the only difference (in ballooning competition !!) between males and females is the fact that females are less numerous than males.  Because they are much less, their general level is lower.   In a world championship, we use to have 2 or 3 females. This means that the others are not in the top 100 of the pilots. Then, we would organise a championship low level to let those who are not good enough to be in the top 100 a chance to win a title.. So, the winner of a world female championship will get a "low level" gold medal.   In some other sports like equestrian sports, women are competing against men.   Also, competing in a World Championship with only 10 or 15 balloons is not interesting and it's much more valuable to be the 30th amongst 100 pilots than 1st amongst 15.  If some female pilots need some recognition, why don't we give a special reward to the first (or top 3) woman of a world championship ?  And, if we think about the organiser, hosting a world championship for only 10 or 15 balloons will not bring them a lot of sponsorship.    Then.. Next step could be a Veteran championship ?! (like women, they are less physically strong than the younger...)</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4)</a:t>
            </a:r>
            <a:endParaRPr b="0" lang="en-US" sz="3200" spc="-1" strike="noStrike">
              <a:solidFill>
                <a:srgbClr val="ffffff"/>
              </a:solidFill>
              <a:latin typeface="Tahoma"/>
            </a:endParaRPr>
          </a:p>
        </p:txBody>
      </p:sp>
      <p:sp>
        <p:nvSpPr>
          <p:cNvPr id="2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grades women as they can compete at the same level as men.</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is actually a world cup for women organised each year in France (Mainfonds) and there only few participants (around 10), and the majority of them are french.</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observation is that a person's sex has nothing to do with their ability to fly a hot air balloon!!!</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203" name=""/>
          <p:cNvGraphicFramePr/>
          <p:nvPr/>
        </p:nvGraphicFramePr>
        <p:xfrm>
          <a:off x="457200" y="1905120"/>
          <a:ext cx="8229600" cy="4647960"/>
        </p:xfrm>
        <a:graphic>
          <a:graphicData uri="http://schemas.openxmlformats.org/presentationml/2006/ole">
            <p:oleObj r:id="rId2" spid="">
              <p:embed/>
              <p:pic>
                <p:nvPicPr>
                  <p:cNvPr id="204"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206" name=""/>
          <p:cNvGraphicFramePr/>
          <p:nvPr/>
        </p:nvGraphicFramePr>
        <p:xfrm>
          <a:off x="457200" y="1905120"/>
          <a:ext cx="8229600" cy="4686120"/>
        </p:xfrm>
        <a:graphic>
          <a:graphicData uri="http://schemas.openxmlformats.org/presentationml/2006/ole">
            <p:oleObj r:id="rId2" spid="">
              <p:embed/>
              <p:pic>
                <p:nvPicPr>
                  <p:cNvPr id="207"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1)</a:t>
            </a:r>
            <a:endParaRPr b="0" lang="en-US" sz="2800" spc="-1" strike="noStrike">
              <a:solidFill>
                <a:srgbClr val="ffffff"/>
              </a:solidFill>
              <a:latin typeface="Tahoma"/>
            </a:endParaRPr>
          </a:p>
        </p:txBody>
      </p:sp>
      <p:sp>
        <p:nvSpPr>
          <p:cNvPr id="2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a well sponsored open event to start with to attract pilots to this type of event to see if it is usccessful.</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flown in many team events, it's my opinion that the factors involved are significantly different enough to warrant such an even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cost cut now.</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gainst but the ones I have competed in were not extremely exiting. Also there has been a very serious attempt be the Australians some 10 years ago to kick one off. But the attempt failed due to lack of interes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team event is an exciting form of competition that challenges the pilots skill in ways a indivitual event can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xpense and time required for the participants would be too great, particullarly a World Championship.</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blem I foresee is that many pilots would have difficulty making more time (and money) available to attend additional e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ersonally I feel it is a big anachronism to compete for a nation. Better would be to have regions with separate ranking lists; the Americas, Europe/Africa and Asia/Australia/pacifics. And each region the same no. of pilots at Worl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quite sure how it would wor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2)</a:t>
            </a:r>
            <a:endParaRPr b="0" lang="en-US" sz="2800" spc="-1" strike="noStrike">
              <a:solidFill>
                <a:srgbClr val="ffffff"/>
              </a:solidFill>
              <a:latin typeface="Tahoma"/>
            </a:endParaRPr>
          </a:p>
        </p:txBody>
      </p:sp>
      <p:sp>
        <p:nvSpPr>
          <p:cNvPr id="2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ul Petrehn (paulp@cameronballoons.com):  Team event participants and qualifying will differ on the Team World Championship scene.  A current National Champion should be able to choose their teammates from a list of other qualified pilots (i.e. other top 10 pilots from the current National Championship and perhaps the previous National Championship).  On the Continental/Regional scene, each team should consist of one entry level pilot to mentor and bring along into the spor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frusher@curves.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hilippe De Cock -phdecock@cocks.be  like the former Honda World Grand Prix, this kind of competition is very good to increase the level of the pilots</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dikohl@gmx.de  --  No opinion, because I don't know what is meant by TEAM-Even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 Roush, mtntom2@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kballooning@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t agree to a new event without knowing the rules/format.  The US conducts A form of team competition, not neccesarily the only forma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rad Craig  brcraig75@hotmai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ichard@Parry.cc</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ury Sullivan, tequilatom@aol.com; not sure I understand what is meant by my concept of mentoring.  If the reference is to team composition providing for mentoring of less experienced pilots then I would establish some sort of ranking system based on a number of factors including: national ranking system, Cat 1 finishes, etc.</a:t>
            </a: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3)</a:t>
            </a:r>
            <a:endParaRPr b="0" lang="en-US" sz="2800" spc="-1" strike="noStrike">
              <a:solidFill>
                <a:srgbClr val="ffffff"/>
              </a:solidFill>
              <a:latin typeface="Tahoma"/>
            </a:endParaRPr>
          </a:p>
        </p:txBody>
      </p:sp>
      <p:sp>
        <p:nvSpPr>
          <p:cNvPr id="2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ngel Aguirre    angel@globuskontiki.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uyg@balloonrepair.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cus.999@btinternet.com  mentoring teaching and training with more junior team members including flying with them as well as preflight planning and post flight debrief.</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b) Women’s Events</a:t>
            </a:r>
            <a:endParaRPr b="0" lang="en-US" sz="4400" spc="-1" strike="noStrike">
              <a:solidFill>
                <a:srgbClr val="ffffff"/>
              </a:solidFill>
              <a:latin typeface="Tahoma"/>
            </a:endParaRPr>
          </a:p>
        </p:txBody>
      </p:sp>
      <p:sp>
        <p:nvSpPr>
          <p:cNvPr id="9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if Women’s Championships should be hel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215" name=""/>
          <p:cNvGraphicFramePr/>
          <p:nvPr/>
        </p:nvGraphicFramePr>
        <p:xfrm>
          <a:off x="457200" y="1905120"/>
          <a:ext cx="8229600" cy="4705200"/>
        </p:xfrm>
        <a:graphic>
          <a:graphicData uri="http://schemas.openxmlformats.org/presentationml/2006/ole">
            <p:oleObj r:id="rId2" spid="">
              <p:embed/>
              <p:pic>
                <p:nvPicPr>
                  <p:cNvPr id="216"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effect on the direction of the balloon?</a:t>
            </a:r>
            <a:endParaRPr b="0" lang="en-US" sz="3200" spc="-1" strike="noStrike">
              <a:solidFill>
                <a:srgbClr val="ffffff"/>
              </a:solidFill>
              <a:latin typeface="Tahoma"/>
            </a:endParaRPr>
          </a:p>
        </p:txBody>
      </p:sp>
      <p:graphicFrame>
        <p:nvGraphicFramePr>
          <p:cNvPr id="218" name=""/>
          <p:cNvGraphicFramePr/>
          <p:nvPr/>
        </p:nvGraphicFramePr>
        <p:xfrm>
          <a:off x="457200" y="1905120"/>
          <a:ext cx="8229600" cy="4705200"/>
        </p:xfrm>
        <a:graphic>
          <a:graphicData uri="http://schemas.openxmlformats.org/presentationml/2006/ole">
            <p:oleObj r:id="rId2" spid="">
              <p:embed/>
              <p:pic>
                <p:nvPicPr>
                  <p:cNvPr id="219"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1)</a:t>
            </a:r>
            <a:endParaRPr b="0" lang="en-US" sz="2800" spc="-1" strike="noStrike">
              <a:solidFill>
                <a:srgbClr val="ffffff"/>
              </a:solidFill>
              <a:latin typeface="Tahoma"/>
            </a:endParaRPr>
          </a:p>
        </p:txBody>
      </p:sp>
      <p:sp>
        <p:nvSpPr>
          <p:cNvPr id="221"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This question is not meant to reopen a discussion about whether turning vents have directional effect, but you may comment if you choose. And, if you believe that they can change direction, please explain how you believe this works.</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re is a majority who feel that turning vents do affect direction then there should be no harm in allowing one vent in competition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experienced flight with turning vents and found it was really effective to change the direction. I could change the direction about 90 degree. The use of turning vents must not be allowed in any competition event. Balloons with turning vents should not be quolified in CAT1 event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uch like the early days of LORAN/GPS, the inability to enforce restrictions on using them (regardless of their affection on flight) almost requires that they be allow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rk in the doldrums     Is unfair because it has the power</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have a turning vents, you should seal up a turning line so that it cannot be us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fiteers would be the manufacturers. When allowed, balloons will be made to fly instead of drift. It would be like allowing the use of engines on a sailboat. The impact of allowing vents in competition will be far greater then the impact of the 'racers'. You may need to buy a the latest type of ballon every year.  If there is no intention to 'reopen the discussion' then why is the question pu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2)</a:t>
            </a:r>
            <a:endParaRPr b="0" lang="en-US" sz="2800" spc="-1" strike="noStrike">
              <a:solidFill>
                <a:srgbClr val="ffffff"/>
              </a:solidFill>
              <a:latin typeface="Tahoma"/>
            </a:endParaRPr>
          </a:p>
        </p:txBody>
      </p:sp>
      <p:sp>
        <p:nvSpPr>
          <p:cNvPr id="2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offer no competitive advantage to the flight path of a balloon.  I say that as a pilot who owns and flys a balloon without turning 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observed balloons with turning events, superheat their balloons to force air out of the vent to alter their direction.    I would have no objections to the use of turning events if it was not on the approach to a targe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problem is policing whether the vents can be opened in such a way as to propel the balloon laterally (e.g. with both vents opened together).  I expect the advantage gained simply by rotating the balloon is virtually impossible to measure/prove.  The easiest way is to leave the rule as it i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 side vent has a potential effect on direction. if you burn and hold it open it does have a significant effect in no-wind condidtion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can pull hard left/right ifi climb quickly with a turn vent ope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ir is released on the side of the balloon it will have an affect in light win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more of a safety issue.  Baskets are becoming more and more like cockpits.  I cant imagine telling an airplane pilot they have to make a low level approach with their avionics facing the wrong direction.  The minor use of turning vents during competition will provide for more organized approaches to targets, therfore safer approach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3)</a:t>
            </a:r>
            <a:endParaRPr b="0" lang="en-US" sz="2800" spc="-1" strike="noStrike">
              <a:solidFill>
                <a:srgbClr val="ffffff"/>
              </a:solidFill>
              <a:latin typeface="Tahoma"/>
            </a:endParaRPr>
          </a:p>
        </p:txBody>
      </p:sp>
      <p:sp>
        <p:nvSpPr>
          <p:cNvPr id="2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n expert in this area but...  "To every action there is an equal and opposite reaction."  Newton's third law of motion.  http://en.wikipedia.org/wiki/Newton%27s_laws_of_motion  So given that turning vents are normally on opposite sides of the envelope, when they are both opperated at the same time, instead of rotating the balloon about it's axis, it will propell the balloon in a direction away from the two open vents. (provided that the pilot also keeps the balloon in the air - usually by turning on the burn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y change direction or not I don't know. If they do then this would be an additional skill for pilots to exploit an as such be an additional test of skill.  My objection is more from the point of view of the use to which they would be put. With the destruction of the sport by the increased use of computers Turning Vents would be used in flight to keep the balloon orientated in the direction of flight for the more effective use of comput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are absolutely unnecessary in competitions. So they should not be allowed to be used in any case.</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watched balloons move cross track, particularly when climbing or descending I am convinced that rotation vents give horizontal motion. Even the pilots who claim that they do not believe that they give horizontal motion want to fit them to give it a try! Come on guys this has been a proven argument for at least 20 years. Lets move on.</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wo vents can move a balloon;  I don't think one ca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4)</a:t>
            </a:r>
            <a:endParaRPr b="0" lang="en-US" sz="2800" spc="-1" strike="noStrike">
              <a:solidFill>
                <a:srgbClr val="ffffff"/>
              </a:solidFill>
              <a:latin typeface="Tahoma"/>
            </a:endParaRPr>
          </a:p>
        </p:txBody>
      </p:sp>
      <p:sp>
        <p:nvSpPr>
          <p:cNvPr id="2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ve heard the experts on this subject (Don Cameron and Carl Stefan) and their opinion that vents can not effectively cause a balloon to change direction is good enough for me.  Time to get rid of this rule forces by one outspoken 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don't believe the use of truning vents materially affects direction of travel but there use could be considered an enhancement to safety.  Let's see use of turning vents vs. 1500-1800 fpm ascents and descents -- let's get serious here and solve the sports REAL problem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owing them may lead to turning vents being designed that do affect direction (left and right on at same time == jet pow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would not take much for someone to modify a turning vent to allow directional chang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have only to check the track record when you open and close the vents. You can see a change of directio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What Is The Best (Approximate) Number of Competitors To Be Invited To A World Championship?</a:t>
            </a:r>
            <a:endParaRPr b="0" lang="en-US" sz="2800" spc="-1" strike="noStrike">
              <a:solidFill>
                <a:srgbClr val="ffffff"/>
              </a:solidFill>
              <a:latin typeface="Tahoma"/>
            </a:endParaRPr>
          </a:p>
        </p:txBody>
      </p:sp>
      <p:graphicFrame>
        <p:nvGraphicFramePr>
          <p:cNvPr id="229" name=""/>
          <p:cNvGraphicFramePr/>
          <p:nvPr/>
        </p:nvGraphicFramePr>
        <p:xfrm>
          <a:off x="457200" y="1905120"/>
          <a:ext cx="8229600" cy="4743360"/>
        </p:xfrm>
        <a:graphic>
          <a:graphicData uri="http://schemas.openxmlformats.org/presentationml/2006/ole">
            <p:oleObj r:id="rId2" spid="">
              <p:embed/>
              <p:pic>
                <p:nvPicPr>
                  <p:cNvPr id="230" name="" descr=""/>
                  <p:cNvPicPr/>
                  <p:nvPr/>
                </p:nvPicPr>
                <p:blipFill>
                  <a:blip r:embed="rId3"/>
                  <a:stretch/>
                </p:blipFill>
                <p:spPr>
                  <a:xfrm>
                    <a:off x="457200" y="1905120"/>
                    <a:ext cx="8229600" cy="47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Minimum Number of Competitors – Comments</a:t>
            </a:r>
            <a:endParaRPr b="0" lang="en-US" sz="2400" spc="-1" strike="noStrike">
              <a:solidFill>
                <a:srgbClr val="ffffff"/>
              </a:solidFill>
              <a:latin typeface="Tahoma"/>
            </a:endParaRPr>
          </a:p>
        </p:txBody>
      </p:sp>
      <p:sp>
        <p:nvSpPr>
          <p:cNvPr id="2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imum 50.    It is small enough to organize and you dont waste too much time getting in and out of the launch site.  Also, for the fly ins there are not too many mad dogs running around.</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less than 75 and not more than 100</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you have too many than the quality of the pilots attending falls.  Too few and pilots that should be there are left ou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 balloons has proved to be manageable at most locations in the recent past.  Inevitably, crowded goals which increase the risk of collision are becoming more of an issue, but the astute director can usually take this into accoun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safety reasons. 20 per region</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ustria was about right, maybe a little too many</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ery country should be able to participate.</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ven the flight mannorisms of these pilots the field needs to be restricted for safety reasons.</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n't know</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lots are now so good that we get serious and potentially dengerous crowding on some of the popular goal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only markers in this area would be measured and valid) how large should the radius be? </a:t>
            </a:r>
            <a:endParaRPr b="0" lang="en-US" sz="2400" spc="-1" strike="noStrike">
              <a:solidFill>
                <a:srgbClr val="ffffff"/>
              </a:solidFill>
              <a:latin typeface="Tahoma"/>
            </a:endParaRPr>
          </a:p>
        </p:txBody>
      </p:sp>
      <p:graphicFrame>
        <p:nvGraphicFramePr>
          <p:cNvPr id="234" name=""/>
          <p:cNvGraphicFramePr/>
          <p:nvPr/>
        </p:nvGraphicFramePr>
        <p:xfrm>
          <a:off x="457200" y="1905120"/>
          <a:ext cx="8229600" cy="4800600"/>
        </p:xfrm>
        <a:graphic>
          <a:graphicData uri="http://schemas.openxmlformats.org/presentationml/2006/ole">
            <p:oleObj r:id="rId2" spid="">
              <p:embed/>
              <p:pic>
                <p:nvPicPr>
                  <p:cNvPr id="235"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1)</a:t>
            </a:r>
            <a:endParaRPr b="0" lang="en-US" sz="3200" spc="-1" strike="noStrike">
              <a:solidFill>
                <a:srgbClr val="ffffff"/>
              </a:solidFill>
              <a:latin typeface="Tahoma"/>
            </a:endParaRPr>
          </a:p>
        </p:txBody>
      </p:sp>
      <p:sp>
        <p:nvSpPr>
          <p:cNvPr id="2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variable is dependent on the conditions like unpredictable weather changes, competition director experience. Set no minimum rather than evaluate different but real results with same point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condition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noot easy at all to find so many places with a radius of 50 m.  For the WAG here in Mondovì  to find scoring areas of 30 m radius is difficul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geography of cour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dea behind a competitive flight is to determine which pilot does the best job of flying the entire series of tasks - not who does the best job of gathering points.  Having no minimum forces all competitors to fly the flight as the intended series of tasks - not determine which ones are "worth it".  Even if one misses the MSA, no minimum scoring area means that he/she must still account for the task in deciding the overall flight profile.  Particularly at CAT 1 events, the pilot that misses by 300m should get more points than the one at 3000m because he/she did a better job of accomplishing that task in the context of the entire fligh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ing on how the marker without scoring area is measured, the scores of middle ranked pilots are not different in case the valid radius is small such as 50m. Nowadays, measuring far away marker become easy using GPS measuring. Consequently, I believe the radius of scoring area should not be written in the COH. Event director should  set on task by tas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97" name=""/>
          <p:cNvGraphicFramePr/>
          <p:nvPr/>
        </p:nvGraphicFramePr>
        <p:xfrm>
          <a:off x="457200" y="1909800"/>
          <a:ext cx="8194680" cy="4638600"/>
        </p:xfrm>
        <a:graphic>
          <a:graphicData uri="http://schemas.openxmlformats.org/presentationml/2006/ole">
            <p:oleObj r:id="rId2" spid="">
              <p:embed/>
              <p:pic>
                <p:nvPicPr>
                  <p:cNvPr id="98"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2)</a:t>
            </a:r>
            <a:endParaRPr b="0" lang="en-US" sz="3200" spc="-1" strike="noStrike">
              <a:solidFill>
                <a:srgbClr val="ffffff"/>
              </a:solidFill>
              <a:latin typeface="Tahoma"/>
            </a:endParaRPr>
          </a:p>
        </p:txBody>
      </p:sp>
      <p:sp>
        <p:nvSpPr>
          <p:cNvPr id="2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m is just fine. Less should be used only as an exception if nothing else in the vacinity is available. More doesn't make sens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the scoring area should be limited to a perfect circle.  I think everything should be done to get a pilot a score within reason.  By limiting the scoring area to a perfect circle you may be uneccesarily discounting a marker that is easily measurable.  If there are no confines of the field a distance of 100 meters is easily measured by a scoring tea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ways up to the task setters - geography etc - square play grounds and so on. This question is difficultly worded (minumum/large?) the answer option 'no min' is not an answer to the question etc</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irector should establish this based on the geographic limitations, weather conditions and competitive standard.  The concept is appropraite to facilitate event management, however, this need not be presciptive to the point of actual siz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iven the standard, everyone should be inside this unless the weather was such that the winds went the other way in which case 100 or 200 is irrellevant</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already have tasks with scoring areas.  There should be NO minimum scoring area.  If everyone outside of a scoring area receives "no result" it is a complete waste of the task and does not reflect the skill of the pilot who only dropped just outside the area compared to those who were kilometres awa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3)</a:t>
            </a:r>
            <a:endParaRPr b="0" lang="en-US" sz="3200" spc="-1" strike="noStrike">
              <a:solidFill>
                <a:srgbClr val="ffffff"/>
              </a:solidFill>
              <a:latin typeface="Tahoma"/>
            </a:endParaRPr>
          </a:p>
        </p:txBody>
      </p:sp>
      <p:sp>
        <p:nvSpPr>
          <p:cNvPr id="2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should be the same as the distance used for tape measurement (no GPS).    This is also valid for measuring teams. During the Worlds 2006 pilots where within 200 meters, but outside the MT area. They were not granted access to the cross to do their own measurem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reccommended scoring area is OK, but the event may have a limited number of scoring officials and need to keep certain scoring areas at a minimum.  Leave the final say in the hands of the director so they can consider all variable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 meters are reasonable for nearly every task and also for all thinkable meteorological conditions, in which we are flying.  If the scoring area is too small, there is too much luck involved, whether you can achieve a result or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difficult to be too specific because many competions have fly in tasks with a target in a field and it is not always possible to have this minimum scoring area all around the target. I am thinking specificly of Saga and other places where to fly in field is long and thi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out Obsevers, it becomes a matter of practicality.</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a minimum is required as that may limit were scorng areas and targets may be placed, but I do think we have to get away from very small areas and that markers near scoring areas should be measured, if they can be seen and easily measure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4)</a:t>
            </a:r>
            <a:endParaRPr b="0" lang="en-US" sz="3200" spc="-1" strike="noStrike">
              <a:solidFill>
                <a:srgbClr val="ffffff"/>
              </a:solidFill>
              <a:latin typeface="Tahoma"/>
            </a:endParaRPr>
          </a:p>
        </p:txBody>
      </p:sp>
      <p:sp>
        <p:nvSpPr>
          <p:cNvPr id="2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up to the competition management to decide this. It depends also on available fields within the relevant part of the competition area.</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OK to give a recommendation but sometimes a 100m X 100m area just is not available.  Event officials need flexibility to create 'hard' targets and get away from intersections.  Who ever heard of an intersection with no obstacles within a 50m radius?</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tside the Area scoring with GPS</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 Questions</a:t>
            </a:r>
            <a:endParaRPr b="0" lang="en-US" sz="4400" spc="-1" strike="noStrike">
              <a:solidFill>
                <a:srgbClr val="ffffff"/>
              </a:solidFill>
              <a:latin typeface="Tahoma"/>
            </a:endParaRPr>
          </a:p>
        </p:txBody>
      </p:sp>
      <p:sp>
        <p:nvSpPr>
          <p:cNvPr id="24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to rank their most favorite and least favorite tasks.  They were also asked which tasks required the most skil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to compare results, each answer was given a score where 1</a:t>
            </a:r>
            <a:r>
              <a:rPr b="0" lang="en-US" sz="2800" spc="-1" strike="noStrike" baseline="30000">
                <a:solidFill>
                  <a:srgbClr val="ffffff"/>
                </a:solidFill>
                <a:latin typeface="Tahoma"/>
              </a:rPr>
              <a:t>st</a:t>
            </a:r>
            <a:r>
              <a:rPr b="0" lang="en-US" sz="2800" spc="-1" strike="noStrike">
                <a:solidFill>
                  <a:srgbClr val="ffffff"/>
                </a:solidFill>
                <a:latin typeface="Tahoma"/>
              </a:rPr>
              <a:t> place = 10 points, 2</a:t>
            </a:r>
            <a:r>
              <a:rPr b="0" lang="en-US" sz="2800" spc="-1" strike="noStrike" baseline="30000">
                <a:solidFill>
                  <a:srgbClr val="ffffff"/>
                </a:solidFill>
                <a:latin typeface="Tahoma"/>
              </a:rPr>
              <a:t>nd</a:t>
            </a:r>
            <a:r>
              <a:rPr b="0" lang="en-US" sz="2800" spc="-1" strike="noStrike">
                <a:solidFill>
                  <a:srgbClr val="ffffff"/>
                </a:solidFill>
                <a:latin typeface="Tahoma"/>
              </a:rPr>
              <a:t> place = 9 points, 3</a:t>
            </a:r>
            <a:r>
              <a:rPr b="0" lang="en-US" sz="2800" spc="-1" strike="noStrike" baseline="30000">
                <a:solidFill>
                  <a:srgbClr val="ffffff"/>
                </a:solidFill>
                <a:latin typeface="Tahoma"/>
              </a:rPr>
              <a:t>rd</a:t>
            </a:r>
            <a:r>
              <a:rPr b="0" lang="en-US" sz="2800" spc="-1" strike="noStrike">
                <a:solidFill>
                  <a:srgbClr val="ffffff"/>
                </a:solidFill>
                <a:latin typeface="Tahoma"/>
              </a:rPr>
              <a:t> place = 8 points…until 10</a:t>
            </a:r>
            <a:r>
              <a:rPr b="0" lang="en-US" sz="2800" spc="-1" strike="noStrike" baseline="30000">
                <a:solidFill>
                  <a:srgbClr val="ffffff"/>
                </a:solidFill>
                <a:latin typeface="Tahoma"/>
              </a:rPr>
              <a:t>th</a:t>
            </a:r>
            <a:r>
              <a:rPr b="0" lang="en-US" sz="2800" spc="-1" strike="noStrike">
                <a:solidFill>
                  <a:srgbClr val="ffffff"/>
                </a:solidFill>
                <a:latin typeface="Tahoma"/>
              </a:rPr>
              <a:t> place = 1 poin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scores were then added to given an overall resul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  MOST Favorite Tasks</a:t>
            </a:r>
            <a:endParaRPr b="0" lang="en-US" sz="4400" spc="-1" strike="noStrike">
              <a:solidFill>
                <a:srgbClr val="ffffff"/>
              </a:solidFill>
              <a:latin typeface="Tahoma"/>
            </a:endParaRPr>
          </a:p>
        </p:txBody>
      </p:sp>
      <p:sp>
        <p:nvSpPr>
          <p:cNvPr id="24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mo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249" name=""/>
          <p:cNvGraphicFramePr/>
          <p:nvPr/>
        </p:nvGraphicFramePr>
        <p:xfrm>
          <a:off x="152280" y="914400"/>
          <a:ext cx="8839440" cy="5724360"/>
        </p:xfrm>
        <a:graphic>
          <a:graphicData uri="http://schemas.openxmlformats.org/presentationml/2006/ole">
            <p:oleObj r:id="rId2" spid="">
              <p:embed/>
              <p:pic>
                <p:nvPicPr>
                  <p:cNvPr id="250"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252" name=""/>
          <p:cNvGraphicFramePr/>
          <p:nvPr/>
        </p:nvGraphicFramePr>
        <p:xfrm>
          <a:off x="152280" y="914400"/>
          <a:ext cx="8839440" cy="5724360"/>
        </p:xfrm>
        <a:graphic>
          <a:graphicData uri="http://schemas.openxmlformats.org/presentationml/2006/ole">
            <p:oleObj r:id="rId2" spid="">
              <p:embed/>
              <p:pic>
                <p:nvPicPr>
                  <p:cNvPr id="253"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25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LEAST Favorite Tasks</a:t>
            </a:r>
            <a:endParaRPr b="0" lang="en-US" sz="4400" spc="-1" strike="noStrike">
              <a:solidFill>
                <a:srgbClr val="ffffff"/>
              </a:solidFill>
              <a:latin typeface="Tahoma"/>
            </a:endParaRPr>
          </a:p>
        </p:txBody>
      </p:sp>
      <p:sp>
        <p:nvSpPr>
          <p:cNvPr id="25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LEA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259" name=""/>
          <p:cNvGraphicFramePr/>
          <p:nvPr/>
        </p:nvGraphicFramePr>
        <p:xfrm>
          <a:off x="152280" y="914400"/>
          <a:ext cx="8839440" cy="5724360"/>
        </p:xfrm>
        <a:graphic>
          <a:graphicData uri="http://schemas.openxmlformats.org/presentationml/2006/ole">
            <p:oleObj r:id="rId2" spid="">
              <p:embed/>
              <p:pic>
                <p:nvPicPr>
                  <p:cNvPr id="260"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omen’s Events</a:t>
            </a:r>
            <a:endParaRPr b="0" lang="en-US" sz="4400" spc="-1" strike="noStrike">
              <a:solidFill>
                <a:srgbClr val="ffffff"/>
              </a:solidFill>
              <a:latin typeface="Tahoma"/>
            </a:endParaRPr>
          </a:p>
        </p:txBody>
      </p:sp>
      <p:sp>
        <p:nvSpPr>
          <p:cNvPr id="10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felt there was not enough data to draw any conclusions at this time, and agreed that no actions or recommendations were necess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262" name=""/>
          <p:cNvGraphicFramePr/>
          <p:nvPr/>
        </p:nvGraphicFramePr>
        <p:xfrm>
          <a:off x="152280" y="914400"/>
          <a:ext cx="8839440" cy="5724360"/>
        </p:xfrm>
        <a:graphic>
          <a:graphicData uri="http://schemas.openxmlformats.org/presentationml/2006/ole">
            <p:oleObj r:id="rId2" spid="">
              <p:embed/>
              <p:pic>
                <p:nvPicPr>
                  <p:cNvPr id="263"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2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EA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FL (Shortest Fligh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 Lin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26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all tasks based 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the flying skill requir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the ‘thinking’ skill requir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26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each answer was given a score. This time a 1</a:t>
            </a:r>
            <a:r>
              <a:rPr b="0" lang="en-US" sz="3200" spc="-1" strike="noStrike" baseline="30000">
                <a:solidFill>
                  <a:srgbClr val="ffffff"/>
                </a:solidFill>
                <a:latin typeface="Tahoma"/>
              </a:rPr>
              <a:t>st</a:t>
            </a:r>
            <a:r>
              <a:rPr b="0" lang="en-US" sz="3200" spc="-1" strike="noStrike">
                <a:solidFill>
                  <a:srgbClr val="ffffff"/>
                </a:solidFill>
                <a:latin typeface="Tahoma"/>
              </a:rPr>
              <a:t> place= 4 points, 2</a:t>
            </a:r>
            <a:r>
              <a:rPr b="0" lang="en-US" sz="3200" spc="-1" strike="noStrike" baseline="30000">
                <a:solidFill>
                  <a:srgbClr val="ffffff"/>
                </a:solidFill>
                <a:latin typeface="Tahoma"/>
              </a:rPr>
              <a:t>nd</a:t>
            </a:r>
            <a:r>
              <a:rPr b="0" lang="en-US" sz="3200" spc="-1" strike="noStrike">
                <a:solidFill>
                  <a:srgbClr val="ffffff"/>
                </a:solidFill>
                <a:latin typeface="Tahoma"/>
              </a:rPr>
              <a:t> place = 3 points, 3</a:t>
            </a:r>
            <a:r>
              <a:rPr b="0" lang="en-US" sz="3200" spc="-1" strike="noStrike" baseline="30000">
                <a:solidFill>
                  <a:srgbClr val="ffffff"/>
                </a:solidFill>
                <a:latin typeface="Tahoma"/>
              </a:rPr>
              <a:t>rd</a:t>
            </a:r>
            <a:r>
              <a:rPr b="0" lang="en-US" sz="3200" spc="-1" strike="noStrike">
                <a:solidFill>
                  <a:srgbClr val="ffffff"/>
                </a:solidFill>
                <a:latin typeface="Tahoma"/>
              </a:rPr>
              <a:t> place = 2 points, 4</a:t>
            </a:r>
            <a:r>
              <a:rPr b="0" lang="en-US" sz="3200" spc="-1" strike="noStrike" baseline="30000">
                <a:solidFill>
                  <a:srgbClr val="ffffff"/>
                </a:solidFill>
                <a:latin typeface="Tahoma"/>
              </a:rPr>
              <a:t>th</a:t>
            </a:r>
            <a:r>
              <a:rPr b="0" lang="en-US" sz="3200" spc="-1" strike="noStrike">
                <a:solidFill>
                  <a:srgbClr val="ffffff"/>
                </a:solidFill>
                <a:latin typeface="Tahoma"/>
              </a:rPr>
              <a:t> place = 1 point and all others received zero points.</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 process was used for flying skill and thinking skill.</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sults were then added and grap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1" name=""/>
          <p:cNvGraphicFramePr/>
          <p:nvPr/>
        </p:nvGraphicFramePr>
        <p:xfrm>
          <a:off x="152280" y="914400"/>
          <a:ext cx="8839440" cy="5724360"/>
        </p:xfrm>
        <a:graphic>
          <a:graphicData uri="http://schemas.openxmlformats.org/presentationml/2006/ole">
            <p:oleObj r:id="rId2" spid="">
              <p:embed/>
              <p:pic>
                <p:nvPicPr>
                  <p:cNvPr id="272"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4" name=""/>
          <p:cNvGraphicFramePr/>
          <p:nvPr/>
        </p:nvGraphicFramePr>
        <p:xfrm>
          <a:off x="152280" y="914400"/>
          <a:ext cx="8839440" cy="5724360"/>
        </p:xfrm>
        <a:graphic>
          <a:graphicData uri="http://schemas.openxmlformats.org/presentationml/2006/ole">
            <p:oleObj r:id="rId2" spid="">
              <p:embed/>
              <p:pic>
                <p:nvPicPr>
                  <p:cNvPr id="275"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7" name=""/>
          <p:cNvGraphicFramePr/>
          <p:nvPr/>
        </p:nvGraphicFramePr>
        <p:xfrm>
          <a:off x="152280" y="914400"/>
          <a:ext cx="8839440" cy="5724360"/>
        </p:xfrm>
        <a:graphic>
          <a:graphicData uri="http://schemas.openxmlformats.org/presentationml/2006/ole">
            <p:oleObj r:id="rId2" spid="">
              <p:embed/>
              <p:pic>
                <p:nvPicPr>
                  <p:cNvPr id="27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 (sorted)</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80" name=""/>
          <p:cNvGraphicFramePr/>
          <p:nvPr/>
        </p:nvGraphicFramePr>
        <p:xfrm>
          <a:off x="152280" y="914400"/>
          <a:ext cx="8839440" cy="5724360"/>
        </p:xfrm>
        <a:graphic>
          <a:graphicData uri="http://schemas.openxmlformats.org/presentationml/2006/ole">
            <p:oleObj r:id="rId2" spid="">
              <p:embed/>
              <p:pic>
                <p:nvPicPr>
                  <p:cNvPr id="281"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Skill Required Overall</a:t>
            </a:r>
            <a:endParaRPr b="0" lang="en-US" sz="4400" spc="-1" strike="noStrike">
              <a:solidFill>
                <a:srgbClr val="ffffff"/>
              </a:solidFill>
              <a:latin typeface="Tahoma"/>
            </a:endParaRPr>
          </a:p>
        </p:txBody>
      </p:sp>
      <p:sp>
        <p:nvSpPr>
          <p:cNvPr id="28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3 tasks believed to require the most skill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T (Controlled Rate of Approa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B (Elbo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Tasks To Be Eliminated</a:t>
            </a:r>
            <a:endParaRPr b="0" lang="en-US" sz="4400" spc="-1" strike="noStrike">
              <a:solidFill>
                <a:srgbClr val="ffffff"/>
              </a:solidFill>
              <a:latin typeface="Tahoma"/>
            </a:endParaRPr>
          </a:p>
        </p:txBody>
      </p:sp>
      <p:sp>
        <p:nvSpPr>
          <p:cNvPr id="28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name tasks which they feel should be eliminated from CAT1 even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urning Vents</a:t>
            </a:r>
            <a:endParaRPr b="0" lang="en-US" sz="4400" spc="-1" strike="noStrike">
              <a:solidFill>
                <a:srgbClr val="ffffff"/>
              </a:solidFill>
              <a:latin typeface="Tahoma"/>
            </a:endParaRPr>
          </a:p>
        </p:txBody>
      </p:sp>
      <p:sp>
        <p:nvSpPr>
          <p:cNvPr id="10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was asked to survey pilots about turning 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th in-flight computers, there is a stronger argument today to allow the use of Turning V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287" name=""/>
          <p:cNvGraphicFramePr/>
          <p:nvPr/>
        </p:nvGraphicFramePr>
        <p:xfrm>
          <a:off x="152280" y="914400"/>
          <a:ext cx="8839440" cy="5724360"/>
        </p:xfrm>
        <a:graphic>
          <a:graphicData uri="http://schemas.openxmlformats.org/presentationml/2006/ole">
            <p:oleObj r:id="rId2" spid="">
              <p:embed/>
              <p:pic>
                <p:nvPicPr>
                  <p:cNvPr id="28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To Be Removed From CAT1 Events</a:t>
            </a:r>
            <a:endParaRPr b="0" lang="en-US" sz="4000" spc="-1" strike="noStrike">
              <a:solidFill>
                <a:srgbClr val="ffffff"/>
              </a:solidFill>
              <a:latin typeface="Tahoma"/>
            </a:endParaRPr>
          </a:p>
        </p:txBody>
      </p:sp>
      <p:sp>
        <p:nvSpPr>
          <p:cNvPr id="2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3 received the most votes to be removed from CAT1 e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NH (Hare and Hou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n Area)</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CAT1 Event Locations</a:t>
            </a:r>
            <a:endParaRPr b="0" lang="en-US" sz="4400" spc="-1" strike="noStrike">
              <a:solidFill>
                <a:srgbClr val="ffffff"/>
              </a:solidFill>
              <a:latin typeface="Tahoma"/>
            </a:endParaRPr>
          </a:p>
        </p:txBody>
      </p:sp>
      <p:sp>
        <p:nvSpPr>
          <p:cNvPr id="29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9000"/>
          </a:bodyPr>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Do you know of a location / city that would be interested in hosting a CAT1 event? Please give the location and country and a contact person (with email address &amp; telephone number). </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ndovì, Italy    Giovanni Aimo    john@aimoballoons.com    0039-335-6061927</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SAGA in Japna.  http://www.sibf.jp/index.php</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daalucia Spai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 be honest, I'm not real sure what a CAT1 event actually is, or what qualifies an event to be CAT1.  But I know there are several over seas, and very few or none at all in the states.  That is something that needs addressed.</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YAZAKI JAPAN  HIGASHIKOKUBARU MR.  MIYAKONOJOSHI JAPA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been looking at trying to get interested sponsorship for sime time here in the UK. fly@balloon.tv Andrew Holly</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co, Texas  balloons@curves.com  254-644-2421</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rrick J. Jones  Battle Creek, MI  derrickjjones@comcast.net  269.209.179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tswolds - C/T Andrew Holly   Exclusive Ballooning [marketing@exclusiveballooning.co.uk]  +44 777330037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uld be most interested in getting involved in any Cat 1 or other regional or national team event.  Maury Sullivan, 330.323.4455, tequilatom@aol.com</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leida  (Spain)  Ricardo Aracil  info@mallorcaballoons.c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20:31:30Z</dcterms:created>
  <dc:creator>Andy</dc:creator>
  <dc:description/>
  <dc:language>en-US</dc:language>
  <cp:lastModifiedBy>admin</cp:lastModifiedBy>
  <dcterms:modified xsi:type="dcterms:W3CDTF">2009-03-13T11:56:25Z</dcterms:modified>
  <cp:revision>37</cp:revision>
  <dc:subject/>
  <dc:title>Slide 1</dc:title>
</cp:coreProperties>
</file>