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287D-CDD5-448E-94CF-7D2EEC474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F304-9602-43F5-8C02-91BEBC7A2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64EF-DBDA-4777-9727-D293569AA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ED30-D4E6-4328-A99D-75833D5DF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62B50-A34B-46E6-A970-FD85309CB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57529-AA52-498F-BFDC-33C5C6CCC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545E1-3E2F-4551-A68F-B92E79AD4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FEF25-7819-4D54-9D7D-6A18F9238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5569F-CD45-4826-A22B-E62EF6206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679A8-BAD2-4581-A9D6-4EBCEB7A9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03C1D-E84B-4E71-9C67-6E664602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E79E-F4B2-4AF8-A3C6-674019976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00ED9-4F85-4DED-B0D9-5DFFAE8BB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26F39-6A9C-4931-B939-1742B287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9DBA9-B57A-428F-B5F4-EB6891DCF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F355B-0CB1-4F64-BD3C-866C490ED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5B102-582E-4A94-984A-89167D81F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5509-D125-46E6-924E-43B9C1616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A82D-593C-4935-9043-04283FBA2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D198-3D1D-484B-9795-B048EABD9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AD7D-8305-4440-8305-DB078734C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F8E9-E59A-4699-A7A2-28B52B111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9103-38A8-4007-B065-6746481CB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EF63-87AB-41CA-8EE0-B28CA6CF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35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5A366-8991-430F-906D-AA4DAB9EBCF8}" type="datetime"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" name="Picture 45" descr="Netline"/>
          <p:cNvPicPr/>
          <p:nvPr/>
        </p:nvPicPr>
        <p:blipFill>
          <a:blip r:embed="rId2"/>
          <a:stretch/>
        </p:blipFill>
        <p:spPr>
          <a:xfrm>
            <a:off x="7908840" y="6364440"/>
            <a:ext cx="1127160" cy="377640"/>
          </a:xfrm>
          <a:prstGeom prst="rect">
            <a:avLst/>
          </a:prstGeom>
          <a:ln w="0">
            <a:noFill/>
          </a:ln>
        </p:spPr>
      </p:pic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901920" y="-525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C84C8-352E-4DD2-8DA5-850C24F5A4B5}" type="slidenum">
              <a:rPr b="0" lang="de-CH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2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Rectangle 2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Group 22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Rectangle 7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Rectangle 16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6" name="Picture 28" descr="Netline"/>
          <p:cNvPicPr/>
          <p:nvPr/>
        </p:nvPicPr>
        <p:blipFill>
          <a:blip r:embed="rId2"/>
          <a:stretch/>
        </p:blipFill>
        <p:spPr>
          <a:xfrm>
            <a:off x="6948360" y="6066000"/>
            <a:ext cx="2124360" cy="711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7B215-3037-4862-843F-3DCCB8B823D1}" type="slidenum">
              <a:rPr b="0" lang="de-CH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5000" spc="-1" strike="noStrike">
                <a:solidFill>
                  <a:srgbClr val="ffffff"/>
                </a:solidFill>
                <a:latin typeface="Arial Narrow"/>
              </a:rPr>
              <a:t>GPS Logger Project </a:t>
            </a:r>
            <a:endParaRPr b="0" lang="en-US" sz="5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9" name="Picture 7" descr="asog_event_partner_RVB"/>
          <p:cNvPicPr/>
          <p:nvPr/>
        </p:nvPicPr>
        <p:blipFill>
          <a:blip r:embed="rId1"/>
          <a:stretch/>
        </p:blipFill>
        <p:spPr>
          <a:xfrm>
            <a:off x="5003640" y="5977080"/>
            <a:ext cx="18338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7D20E-11A5-44E7-8108-FFD007A5367A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29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Why new GPS Loggers?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st current loggers are in bad condi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mprove ballooning competition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Virtual marker drop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ly On task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top / reduce discussions about accurac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ate of the art GPS technology (SiRF III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ilot can view his logged posi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gger interval 1se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mplify logger handling in scoring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08CD1-CBF2-4E52-8C8A-F2A72FD94554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29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Key feature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lay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view scored position (in UTM or Long/Lat) and altitude (in feet or meters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Keypad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enter Fly On goals or drop marker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USB-Port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use logger as navigation device for the pilot’s laptop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D-Card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store the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gitally signed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rack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rial output for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elemetry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(live tracking/scoring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iRF III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GPS technolog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019EF-D2C6-4011-A55F-3589F71B4E9A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29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Prototyp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1" name="Picture 7" descr="Extracted2"/>
          <p:cNvPicPr/>
          <p:nvPr/>
        </p:nvPicPr>
        <p:blipFill>
          <a:blip r:embed="rId1"/>
          <a:stretch/>
        </p:blipFill>
        <p:spPr>
          <a:xfrm>
            <a:off x="611280" y="1989000"/>
            <a:ext cx="3633840" cy="3886200"/>
          </a:xfrm>
          <a:prstGeom prst="rect">
            <a:avLst/>
          </a:prstGeom>
          <a:ln w="0">
            <a:noFill/>
          </a:ln>
        </p:spPr>
      </p:pic>
      <p:sp>
        <p:nvSpPr>
          <p:cNvPr id="122" name="Line 10"/>
          <p:cNvSpPr/>
          <p:nvPr/>
        </p:nvSpPr>
        <p:spPr>
          <a:xfrm flipH="1">
            <a:off x="2843280" y="1268280"/>
            <a:ext cx="2016000" cy="79236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1"/>
          <p:cNvSpPr/>
          <p:nvPr/>
        </p:nvSpPr>
        <p:spPr>
          <a:xfrm flipH="1">
            <a:off x="1403280" y="1844640"/>
            <a:ext cx="3456000" cy="165564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>
            <a:off x="2556000" y="2421000"/>
            <a:ext cx="2303280" cy="115236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H="1">
            <a:off x="2484000" y="3573360"/>
            <a:ext cx="2374920" cy="151128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5"/>
          <p:cNvSpPr/>
          <p:nvPr/>
        </p:nvSpPr>
        <p:spPr>
          <a:xfrm flipH="1">
            <a:off x="2050560" y="2997360"/>
            <a:ext cx="2808360" cy="115236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6"/>
          <p:cNvSpPr/>
          <p:nvPr/>
        </p:nvSpPr>
        <p:spPr>
          <a:xfrm flipH="1">
            <a:off x="4140000" y="4149720"/>
            <a:ext cx="718920" cy="79200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4860720" y="10526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SiRF III GPS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8"/>
          <p:cNvSpPr/>
          <p:nvPr/>
        </p:nvSpPr>
        <p:spPr>
          <a:xfrm>
            <a:off x="4861800" y="162864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SD-Card sl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0"/>
          <p:cNvSpPr/>
          <p:nvPr/>
        </p:nvSpPr>
        <p:spPr>
          <a:xfrm>
            <a:off x="4863240" y="220500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4-lines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1"/>
          <p:cNvSpPr/>
          <p:nvPr/>
        </p:nvSpPr>
        <p:spPr>
          <a:xfrm>
            <a:off x="4863240" y="2781360"/>
            <a:ext cx="24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AVR32 Micro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2"/>
          <p:cNvSpPr/>
          <p:nvPr/>
        </p:nvSpPr>
        <p:spPr>
          <a:xfrm>
            <a:off x="4861080" y="335772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Bat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3"/>
          <p:cNvSpPr/>
          <p:nvPr/>
        </p:nvSpPr>
        <p:spPr>
          <a:xfrm>
            <a:off x="4862160" y="393372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Key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4" descr="Extracted"/>
          <p:cNvPicPr/>
          <p:nvPr/>
        </p:nvPicPr>
        <p:blipFill>
          <a:blip r:embed="rId2"/>
          <a:stretch/>
        </p:blipFill>
        <p:spPr>
          <a:xfrm>
            <a:off x="6772320" y="3284640"/>
            <a:ext cx="2044800" cy="25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Date Placeholder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7043A-E4AE-463D-8AAC-8566B9555CC2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29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Progres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iscussions at CIA Conference 2007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ts of talks in summer 2007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ystem desig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totype developme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sted different GPS receivers (approx. 20 flights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PS logger repor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oking for a production partn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39" name="Picture 7" descr="IMG_0805"/>
          <p:cNvPicPr/>
          <p:nvPr/>
        </p:nvPicPr>
        <p:blipFill>
          <a:blip r:embed="rId1"/>
          <a:stretch/>
        </p:blipFill>
        <p:spPr>
          <a:xfrm>
            <a:off x="5003640" y="4005360"/>
            <a:ext cx="3265560" cy="2176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IMG_0726"/>
          <p:cNvPicPr/>
          <p:nvPr/>
        </p:nvPicPr>
        <p:blipFill>
          <a:blip r:embed="rId2"/>
          <a:stretch/>
        </p:blipFill>
        <p:spPr>
          <a:xfrm>
            <a:off x="5364000" y="692280"/>
            <a:ext cx="252900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76DE0-55AD-4C3B-B0AD-737586BAEB18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29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Cost / Production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 Narrow"/>
              </a:rPr>
              <a:t>Production partner not yet defined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 Narrow"/>
              </a:rPr>
              <a:t>Cost per device estimation: 600 - 1000 €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 Narrow"/>
              </a:rPr>
              <a:t>Build at least 100 devices as soon as possibl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3034B-2DB8-4581-942F-5E2ED3E652F8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29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ecide on financing model / find investo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uild a second prototype based on custom electronics and chassis until Jun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est in several even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roduction of series zero after summ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re units available by summer 2009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imetable is depends on financing solution!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5000" spc="-1" strike="noStrike">
                <a:solidFill>
                  <a:srgbClr val="ffffff"/>
                </a:solidFill>
                <a:latin typeface="Arial Narrow"/>
              </a:rPr>
              <a:t>Backup</a:t>
            </a:r>
            <a:endParaRPr b="0" lang="en-US" sz="5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4623F-C129-40AC-A7E8-F8C94F9CDC64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29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About André-Netlin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Lukas André, MSc BA Uni Ber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Marc André, MSc ETH E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ndré-Netline has been developing custom software for more than 10 year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xperienced in ballooning competition as team member and scoring officials (national and international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5T13:07:08Z</dcterms:created>
  <dc:creator>Lukas André</dc:creator>
  <dc:description/>
  <dc:language>en-US</dc:language>
  <cp:lastModifiedBy>Claude Weber</cp:lastModifiedBy>
  <dcterms:modified xsi:type="dcterms:W3CDTF">2008-03-07T10:58:15Z</dcterms:modified>
  <cp:revision>60</cp:revision>
  <dc:subject/>
  <dc:title>In and ou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