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9.wmf" ContentType="image/x-wmf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3BEB5-A85A-429A-BFE6-A57887FFC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BBEC0-9FBE-42B9-9755-8A5C99446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C180E-6990-41F2-8A73-51588E92D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E635A-6F6E-48DE-8535-C3AD7D586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62238-9DE2-4750-82D1-1ACEC62A3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B43CE-0FB3-4587-9A61-A8737D216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7179E-B049-45B5-99FF-4FE0D74FF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718E4-52DB-4E71-85EE-F423B850F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63F4C-07C6-4603-BD1C-596EA2365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9ACAF-B1B9-4678-96FA-491569C81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83A4C-9B23-46BF-B2B8-391749F8B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97266-A9AF-40C8-B378-4E4711A80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2DCB2-155C-4218-975D-9C8F4D664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0B3F3-3FD4-44AC-A347-1E8E6370C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DC374-204F-440E-B013-29160801F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B1989-3AE2-4E04-BEDF-72F2E7DA2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AA600-631A-45E6-868E-479DB7861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14F7C-855C-4AF0-BCEA-12BBBD855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734BE-7B6F-4E9D-94EB-4E3889540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384BF-1114-40AE-9274-F54180EDF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26196-E70C-497C-9087-C8F93987F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A3A20-A395-4BB0-A698-BC669A6E8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64E9E-E2AE-4A31-9798-D05909A81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1ADB3-45BF-454D-B25A-92CCBC3AD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52B94-2C0A-4A54-BFE5-062000F14983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C4C7A-3426-4171-94ED-419D042C6217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0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26920" y="404280"/>
            <a:ext cx="77724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b2b2b2"/>
                </a:solidFill>
                <a:latin typeface="Arial"/>
              </a:rPr>
              <a:t>Nomination for </a:t>
            </a:r>
            <a:br>
              <a:rPr sz="3600"/>
            </a:br>
            <a:r>
              <a:rPr b="1" lang="ru-RU" sz="3600" spc="-1" strike="noStrike">
                <a:solidFill>
                  <a:srgbClr val="b2b2b2"/>
                </a:solidFill>
                <a:latin typeface="Arial"/>
              </a:rPr>
              <a:t>Santos Dumont Gold Airship Medal</a:t>
            </a: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692360" y="5445000"/>
            <a:ext cx="6400800" cy="13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Leonid TYUKHTYAEV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SSIA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268360" y="1870200"/>
            <a:ext cx="5183280" cy="345420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2b2b2"/>
                </a:solidFill>
                <a:latin typeface="Arial"/>
              </a:rPr>
              <a:t>Leonid TYUKHTYAEV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924360" y="2492280"/>
            <a:ext cx="475776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ate of birth – 21 of June, 195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 ballooning from 199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t-air &amp; Gas balloons and Airship pilo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ational Absolute Altitude Record holder (Class A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ussian Alternate in CIA FA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20840" y="1413000"/>
            <a:ext cx="332892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FAI World Record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8360" y="5444640"/>
            <a:ext cx="8229600" cy="11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Se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mber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4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2008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– Flight of Au-30 Gas Airship (Saint-Peterburg – Vladimi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AI World Record for subcategories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BA-05 - BA-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Distance - 626.1 km (FAI Database ID 15161-15166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763640" y="1557360"/>
            <a:ext cx="5616720" cy="374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FAI World Record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8360" y="580536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Sep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ember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14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2008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– Flight of Au-30 Gas Airship (Saint-Peterburg – Vladimir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AI World Record for subcategories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BA-05 - BA-1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Distance - 626.1 km (FAI Database ID 15161-15166)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908000" y="1484280"/>
            <a:ext cx="5394600" cy="412596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292720" y="1413000"/>
            <a:ext cx="2519280" cy="16812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1763640" y="3571920"/>
            <a:ext cx="2160720" cy="216072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FAI World Record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68360" y="5444640"/>
            <a:ext cx="8229600" cy="11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Feb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uary 03,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2009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AI World Record for subcategory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BX-03, Distance - 99.136 km (FAI Database ID 1524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Feb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uary 24,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2009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AI World Record for subcategory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BX-03, Duration - 5 h 5 min (FAI Database ID 15243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692360" y="1125360"/>
            <a:ext cx="5689440" cy="38116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Russian Records Factory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123640" y="1341000"/>
            <a:ext cx="4753080" cy="43210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2484360" y="1413000"/>
            <a:ext cx="4175280" cy="417492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755640" y="5805360"/>
            <a:ext cx="792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ussian Records Factory was established by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ONID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TYUKHTYAEV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in 2006 to help Russian and former-USSR pilots with national and world record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NOMINATION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020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The Federation of Aeronautics of Russia conside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that thes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orld record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flights are an outstanding performance in airships and proudly presen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L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ONID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TYUKHTYAEV as a candidate for the Santos Dumont Gold Airship Medal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5580000" y="1628640"/>
            <a:ext cx="3111480" cy="44643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3132000" y="1628640"/>
            <a:ext cx="242280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5T18:47:31Z</dcterms:created>
  <dc:creator>Stanislaw Fuodoroff</dc:creator>
  <dc:description/>
  <dc:language>en-US</dc:language>
  <cp:lastModifiedBy>Stanislaw Fuodoroff</cp:lastModifiedBy>
  <dcterms:modified xsi:type="dcterms:W3CDTF">2010-03-13T08:47:47Z</dcterms:modified>
  <cp:revision>19</cp:revision>
  <dc:subject/>
  <dc:title>Nomination for  Santos Dumont Gold Airship Medal </dc:title>
</cp:coreProperties>
</file>