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2BF8-9A98-4794-8088-B8173DB6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4252-D5BD-42BC-8051-070788B4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FA94-9509-4DDC-87AD-0AA32B113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72D5-BC31-4407-89A9-CF23B2965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5991-FB4B-4037-91D2-C5D1AEE2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A00B-CB15-4958-BD10-8491C540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35A1-3AF4-467B-8986-F91C62DD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F1F5-D94E-486B-ABD5-C00763E5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CA22-F3E9-42F3-85CC-AD6D2A53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4626-80E5-4E28-AF8C-832BE00C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8768-6608-457A-BB3F-9A15EEE0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D6E6-32DE-4145-83EB-8CCBAA2F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7685-8656-48BB-BAE0-8F23C1EC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DC2E-8D95-464B-8E63-0F36D6A1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7917-E462-495E-9F7D-BF112CC2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5933-F70A-41D4-B7D4-9F864211C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F629-BA1C-4372-AA6D-8407D31D3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3977-BFE6-47E1-B109-83FDCA0E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BD28-B9FB-4C06-8CE5-0C958C7F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FFA9-9473-4913-BEC1-C252D754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0AEC-E60A-4A7C-9938-1E8C5B21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0E02-2241-4159-8A2E-27C8AD42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1045-75CB-409B-A7A2-626DC401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D47B-7FEE-4A2A-843C-16A363FC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1119-0A78-48EC-BE05-7D8017FF75F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6F2D-F81E-408D-8962-3345C506004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Nomination for </a:t>
            </a:r>
            <a:br>
              <a:rPr sz="3600"/>
            </a:b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Santos Dumont Gold Airship Medal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5445000"/>
            <a:ext cx="6400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Leonid TYUKHTYAE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SSI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68360" y="1870200"/>
            <a:ext cx="5183280" cy="3454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2b2b2"/>
                </a:solidFill>
                <a:latin typeface="Arial"/>
              </a:rPr>
              <a:t>Leonid TYUKHTYAEV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24360" y="2492280"/>
            <a:ext cx="4757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e of birth – 21 of June, 19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ballooning from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-air &amp; Gas balloons and Airship pil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ional Absolute Altitude Record holder (Class 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Alternate in CIA F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0840" y="1413000"/>
            <a:ext cx="33289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167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58053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394600" cy="4125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2519280" cy="1681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63640" y="3571920"/>
            <a:ext cx="2160720" cy="21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03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istance - 99.136 km (FAI Database ID 1524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24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uration - 5 h 5 min (FAI Database ID 1524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689440" cy="381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ussian Records Fac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3640" y="1341000"/>
            <a:ext cx="4753080" cy="432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4175280" cy="4174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5805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Records Factory was established b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YUKHTYAE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2006 to help Russian and former-USSR pilots with national and world rec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MIN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 Federation of Aeronautics of Russia consid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that the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ld recor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lights are an outstanding performance in airships and proudly pres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YUKHTYAEV as a candidate for the Santos Dumont Gold Airship Med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111480" cy="446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132000" y="1628640"/>
            <a:ext cx="2422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8:47:31Z</dcterms:created>
  <dc:creator>Stanislaw Fuodoroff</dc:creator>
  <dc:description/>
  <dc:language>en-US</dc:language>
  <cp:lastModifiedBy>Stanislaw Fuodoroff</cp:lastModifiedBy>
  <dcterms:modified xsi:type="dcterms:W3CDTF">2010-03-13T08:47:47Z</dcterms:modified>
  <cp:revision>19</cp:revision>
  <dc:subject/>
  <dc:title>Nomination for  Santos Dumont Gold Airship Medal </dc:title>
</cp:coreProperties>
</file>