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C47-E432-4F5A-A089-B722567D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6FA-5CAA-4F80-85DA-C7A054E5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9F8-2549-41D9-97E0-B1D201650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5EC4-14B9-42F1-A998-53C1F8AB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DEF2E9-5A91-43C8-952A-A35CE918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5F52B-CF9D-4C95-B0A5-A90AA974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EA08F-7EDC-49A3-AF7A-F064EACE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D0414-24D6-4D0F-9ACA-9B633C17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2AFAC-BE0A-40C5-8A20-1AB74689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80CB6-ED0D-452F-814F-71849A26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88FBC-14E5-4A5C-A13B-3A9A36F0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A94-7E18-4012-8B1A-69870C89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A3641-6E5F-490E-9842-984FD578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6498F-B4F8-45E3-A2AB-15B4EDD5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DA615-A14E-40C6-8B6E-A2AAFAC5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0B9CB-D92C-4551-92C7-4B679074A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6286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885840"/>
            <a:ext cx="26424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4AFA5-8A8F-41F8-9A1C-4B049E1B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968-550E-4D39-BEA9-E14A190F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517F-2D9B-4A79-8C8D-5AC21629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C45C-F42F-4E2F-A287-5D65A144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B644-3418-4555-AD30-C35DF4C3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D78E-DB7E-4F15-87A5-51C7B048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3880" y="38858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7128-F7E5-4C94-94F1-93911B09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3880" y="1628640"/>
            <a:ext cx="40050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360" y="3885840"/>
            <a:ext cx="82072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D418-245A-4329-9F77-B0760E3C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072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AC7D-D439-4882-B6C9-ADA0CCEA73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" descr=""/>
          <p:cNvPicPr/>
          <p:nvPr/>
        </p:nvPicPr>
        <p:blipFill>
          <a:blip r:embed="rId2"/>
          <a:srcRect l="0" t="9114" r="13524" b="8701"/>
          <a:stretch/>
        </p:blipFill>
        <p:spPr>
          <a:xfrm>
            <a:off x="7956720" y="6068880"/>
            <a:ext cx="1091880" cy="66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0724-6B64-4952-B0C8-248BD76167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Microlight Activity Analy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3357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MA Meeting November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3ff"/>
                </a:solidFill>
                <a:latin typeface="Arial"/>
              </a:rPr>
              <a:t>Contributing Countr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42800" y="1412640"/>
            <a:ext cx="3151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zech Re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18200" y="1412640"/>
            <a:ext cx="3457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7200" y="144360"/>
            <a:ext cx="8799480" cy="6508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0" y="70246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65160" y="703584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7440480"/>
            <a:ext cx="828720" cy="9223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41400" y="7442280"/>
            <a:ext cx="828720" cy="28728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737E-007 C 0.08247 -0.31853 0.16493 -0.63636 0.31528 -0.74786 C 0.46563 -0.85935 0.80521 -0.68286 0.90243 -0.66944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1.13347E-006 C 0.02222 -0.38029 0.04445 -0.76058 0.17656 -0.84016 C 0.30868 -0.91973 0.69028 -0.53828 0.79306 -0.47791 E">
                                      <p:cBhvr>
                                        <p:cTn id="1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474E-007 C 0.14445 -0.3708 0.28889 -0.74138 0.43854 -0.82304 C 0.58854 -0.90469 0.74358 -0.69766 0.89879 -0.49063 E">
                                      <p:cBhvr>
                                        <p:cTn id="2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1.32084E-006 C 0.11372 -0.33588 0.22761 -0.67152 0.36112 -0.69743 C 0.49463 -0.72334 0.72779 -0.24543 0.80122 -0.15499 E">
                                      <p:cBhvr>
                                        <p:cTn id="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-4680" y="-85680"/>
            <a:ext cx="9153360" cy="636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598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6:50:18Z</dcterms:created>
  <dc:creator>Keith Negal</dc:creator>
  <dc:description/>
  <dc:language>en-US</dc:language>
  <cp:lastModifiedBy>Keith Negal</cp:lastModifiedBy>
  <dcterms:modified xsi:type="dcterms:W3CDTF">2005-11-17T14:52:57Z</dcterms:modified>
  <cp:revision>6</cp:revision>
  <dc:subject/>
  <dc:title>Slide 1</dc:title>
</cp:coreProperties>
</file>