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562-8200-4824-AF6B-E74D8CDF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286-8A95-4E20-B28B-5478F0A2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9E9-E42F-4DFD-87B6-BD73A5DF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0206-FDB2-4CE2-AAE3-0A3984AE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CA1F-1718-4B7A-B6D5-11A17EAA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509B-096E-4224-80E6-9F10A71F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7CBA-4A24-46CA-97C2-92DF93AB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F17F-3C57-4432-A7C0-6A36F52F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1B8A-5FD2-491B-BA39-743728DD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E953-43D9-4391-B1A7-3972D972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7EEA-F379-451F-A862-206C730E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3F7-D193-4D25-9DB8-2677B61E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A098-B4C1-42F1-AFAA-93D9E4C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1B93-0904-491F-814C-0B3D2738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C340-D12C-4AF2-A91B-CB332EC2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1C96-E635-4EF6-B2B5-3885D132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7F7D6-9FF8-4060-9686-8EA64515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B291-8CDD-49C7-AD58-CC97BC88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9CE0-5FF0-4087-835F-A3FB0736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CC2-781B-41C9-9EA0-CDB22ED6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123-8192-488B-99B1-81337609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F56-70EF-4EA9-8957-1FC2CF4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8CF-37BD-4A91-A055-F36DC10A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D70-A520-4095-8DBA-6E2CBBA0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600200" y="6552720"/>
            <a:ext cx="5867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305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E68D-9D70-447E-9343-CBE8915EE9B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0880" cy="8380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8381880" y="0"/>
            <a:ext cx="7621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7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AD88-8B6E-4AEC-AB73-D961ACC29C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uropean Microlight Championship 2006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Paramotor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34290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imes New Roman"/>
              </a:rPr>
              <a:t>Chozas de Abajo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irfield, León, Sp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19-26 august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1828800" cy="1131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85716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eteorology in augu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80076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6858000" cy="2697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19051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648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ug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964D-7D69-4C4D-AD62-31F857E4DE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Air Masters 2004, Le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4191120" cy="3143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371600" y="40006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486400" y="4038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B9E-54C9-48ED-9F23-47F081CF9D5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360-FB2E-4069-93E1-3604E241D0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offici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vent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José Luis Rold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mpetition Director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Manuel R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puty direc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Francisco Setié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ternational Jury (pend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tewards: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Wolfgang Lintl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Carlos Trig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onitor: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ichard Meredith-Har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D87D-E252-4F3E-9002-CD3FDAF2C2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vent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José Luis Rold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fessional photograp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pil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instr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araglider and paramotor competiton marsh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a Spanish paramotor championship, league event and the Way of Santiago in paramo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er of summer activities for large groups of pleople of all 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motor of air sports through talks, expositons and exhib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387440" cy="17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AE85-EC0B-454B-9C24-DE3C1A1D4D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2590560" cy="1943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ompetition director: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Manuel Rey (“Coco”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eronautical qualific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pilot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98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ragliding instructor since 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PL (A) licenc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crolight instructor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licence rating since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aramot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ilot since 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PL(A) licence ME and IR rating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since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248520" y="5257800"/>
            <a:ext cx="1752480" cy="1168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724280" y="16765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et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c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mpeti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nce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anish National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crolight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hampion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 medals in FAI cat I microlight compet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veral medals in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erobatic Spanish champ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rganizer of several Spanish competition events: 1 national championship, 1 league event, 4 tou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72400" y="762120"/>
            <a:ext cx="90972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E14D-2629-496F-97ED-C00F1885EE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3AC-2CDE-4117-9FB8-11581A04F6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dates</a:t>
            </a:r>
            <a:br>
              <a:rPr sz="4400"/>
            </a:b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15-26 / August / 200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ining, aircraft inspection, registration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From t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esday, 1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to friday, 18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ening Ceremony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rst Competition briefing:</a:t>
            </a:r>
            <a:br>
              <a:rPr sz="2400"/>
            </a:b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19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test Flying Day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rom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day 20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to Friday 25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s-ES" sz="2400" spc="-1" strike="noStrike" baseline="30000">
                <a:solidFill>
                  <a:srgbClr val="ffff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1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osing Ceremony, Prize-giving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Saturday, 26</a:t>
            </a:r>
            <a:r>
              <a:rPr b="0" lang="en-GB" sz="24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FA7-0F08-4A2A-816F-76EFC1DB45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600200" y="137160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8059-D498-4B9B-9884-9815E589DAF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ampionship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s: PF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aramotor trikes: PL1 and PL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inimum of 4 countries for a valid cla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B64-FBDE-4464-BE45-AD07BC4742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676160" y="13716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A2F-94CD-4013-A970-B81D3D35F97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0476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Ven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Offici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Da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66"/>
                </a:solidFill>
                <a:latin typeface="Arial"/>
              </a:rPr>
              <a:t>Class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cc66"/>
                </a:solidFill>
                <a:latin typeface="Arial"/>
              </a:rPr>
              <a:t>Entry fees and insuranc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F625-C5E9-4DB2-A9EF-DC09BC314E1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Entry fe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pilo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400 € for each co-pilot (naviga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200 € for each Team Lea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for assistants and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will be increased by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50 €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fter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y fees inclu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etition operations (setting, controlling and evaluating the task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l competition materials (maps, task descriptions, control point atlases, etc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ree use of the airport and free entry to all official ev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mping place for each team with water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lectri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ferential prices to 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496-558D-485D-B1ED-4BE73F4E193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Insurance require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party insurance (not covering passengers)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50.000 € for PF1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0.000 € for PL1 and PL2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(paramotor trik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ssenger insurance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M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im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50.000 € for PL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C6B-8DF6-4DC9-B9E8-CE32F3A5B93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Championship Venue:</a:t>
            </a:r>
            <a:br>
              <a:rPr sz="3600"/>
            </a:br>
            <a:r>
              <a:rPr b="0" i="1" lang="es-ES" sz="3600" spc="-1" strike="noStrike">
                <a:solidFill>
                  <a:srgbClr val="ffcc66"/>
                </a:solidFill>
                <a:latin typeface="Arial"/>
              </a:rPr>
              <a:t>Chozas de Abajo</a:t>
            </a:r>
            <a:r>
              <a:rPr b="0" lang="es-ES" sz="3600" spc="-1" strike="noStrike">
                <a:solidFill>
                  <a:srgbClr val="ffcc66"/>
                </a:solidFill>
                <a:latin typeface="Arial"/>
              </a:rPr>
              <a:t> airfield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319800" cy="52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A880-DA18-482A-A7C6-90DDF98622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How to get to the championship venu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FCB-8834-48A4-91DE-7D803C6EEF1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81680" cy="55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B21-798F-4E9C-9C65-18911D412A2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C35-36B5-4E70-A5E1-71508C0255F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658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Coordinates: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 42° 30,167</a:t>
            </a:r>
            <a:br>
              <a:rPr sz="4000"/>
            </a:b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W 005° 40,5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Eleva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o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n: 895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 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Strip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: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18/36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8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Grass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: 09/27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0" lang="en-GB" sz="4000" spc="-1" strike="noStrike">
                <a:solidFill>
                  <a:srgbClr val="ffcc66"/>
                </a:solidFill>
                <a:latin typeface="Arial"/>
              </a:rPr>
              <a:t>300x5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3731-3AF7-4418-9415-9FE5F8D380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809880" y="272412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A0C1-0826-47FB-A2A8-FC66566927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66"/>
                </a:solidFill>
                <a:latin typeface="Arial"/>
              </a:rPr>
              <a:t>Chozas de Abajo airfiel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09680" y="914400"/>
            <a:ext cx="4734000" cy="553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uropean Microlight Championship 2006 – Chozas de Abajo, León, Spai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9AE-F8EE-4CA4-857F-DB15187ABB1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2/11/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5:12:35Z</dcterms:created>
  <dc:creator>José Luis Esteban</dc:creator>
  <dc:description/>
  <dc:language>en-US</dc:language>
  <cp:lastModifiedBy>FAI</cp:lastModifiedBy>
  <dcterms:modified xsi:type="dcterms:W3CDTF">2005-11-22T10:50:18Z</dcterms:modified>
  <cp:revision>21</cp:revision>
  <dc:subject/>
  <dc:title>Bid for WMC 2007 (Classics)</dc:title>
</cp:coreProperties>
</file>