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4EEB-ED85-4312-9F05-699D9A8DF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oy totalmente de acuer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13F9-9EFD-4AA8-8ED7-BFBB945CC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A2C0-8E3D-4D13-A137-64798B082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6AD8-1AF3-40B1-B254-052F8BC7D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110D-960A-417C-9E6E-45684187F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946A-C29B-426E-9CBC-7480B9575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A495-7923-4B6A-A60A-C15F6B8F8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D8B8-BD71-4ED9-BAB4-F6550B1B0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3883-1E00-45AA-B7BF-BA618BE81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7D36-03F8-40E6-B4B5-CBDE6572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FC7F-E98A-4A20-9FC0-76F0539F9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0B09-5084-4482-8AAE-F3572EF3F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185B-83DE-429D-B138-256785B8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2A11-736C-450E-9CE4-14A82A0F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8A07-317F-43C4-80BE-CAE6F332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590F-7FC0-4D83-B70E-F4DCE040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87B9-A9E8-475F-82C7-606DB62F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241A-42C4-41BF-BA4B-911FFCF4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ECB9-3CE7-47C2-83C6-C98B2A4A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62ED-150D-4BF7-8C68-883C38A1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AE84-363E-41CA-9A69-25855D56C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aasm.org/FullMadridProgramwithAbstracts.pdf" TargetMode="External"/><Relationship Id="rId2" Type="http://schemas.openxmlformats.org/officeDocument/2006/relationships/hyperlink" Target="http://www.iaasm.org/FullMadridProgramwithAbstracts.pdf" TargetMode="External"/><Relationship Id="rId3" Type="http://schemas.openxmlformats.org/officeDocument/2006/relationships/hyperlink" Target="http://www.iaasm.org/FullMadridProgramwithAbstracts.pdf" TargetMode="External"/><Relationship Id="rId4" Type="http://schemas.openxmlformats.org/officeDocument/2006/relationships/hyperlink" Target="http://www.iaasm.org/FullMadridProgramwithAbstracts.pdf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omento.es/NR/rdonlyres/2885E1B3-BCE3-4538-BE33-1F3D736667C6/41384/InformeULM2007.pdf accessed Aug 7,2009" TargetMode="External"/><Relationship Id="rId2" Type="http://schemas.openxmlformats.org/officeDocument/2006/relationships/hyperlink" Target="http://www.fomento.es/NR/rdonlyres/2885E1B3-BCE3-4538-BE33-1F3D736667C6/41384/InformeULM2007.pdf accessed Aug 7,2009" TargetMode="External"/><Relationship Id="rId3" Type="http://schemas.openxmlformats.org/officeDocument/2006/relationships/hyperlink" Target="http://www.fomento.es/NR/rdonlyres/2885E1B3-BCE3-4538-BE33-1F3D736667C6/41384/InformeULM2007.pdf accessed Aug 7,2009" TargetMode="External"/><Relationship Id="rId4" Type="http://schemas.openxmlformats.org/officeDocument/2006/relationships/hyperlink" Target="http://www.fomento.es/NR/rdonlyres/2885E1B3-BCE3-4538-BE33-1F3D736667C6/41384/InformeULM2007.pdf accessed Aug 7,2009" TargetMode="External"/><Relationship Id="rId5" Type="http://schemas.openxmlformats.org/officeDocument/2006/relationships/hyperlink" Target="http://www.fomento.es/NR/rdonlyres/2885E1B3-BCE3-4538-BE33-1F3D736667C6/41384/InformeULM2007.pdf accessed Aug 7,2009" TargetMode="External"/><Relationship Id="rId6" Type="http://schemas.openxmlformats.org/officeDocument/2006/relationships/hyperlink" Target="http://www.fomento.es/NR/rdonlyres/2885E1B3-BCE3-4538-BE33-1F3D736667C6/41384/InformeULM2007.pdf accessed Aug 7,2009" TargetMode="External"/><Relationship Id="rId7" Type="http://schemas.openxmlformats.org/officeDocument/2006/relationships/hyperlink" Target="http://www.fomento.es/NR/rdonlyres/2885E1B3-BCE3-4538-BE33-1F3D736667C6/41384/InformeULM2007.pdf accessed Aug 7,2009" TargetMode="External"/><Relationship Id="rId8" Type="http://schemas.openxmlformats.org/officeDocument/2006/relationships/hyperlink" Target="http://www.fomento.es/NR/rdonlyres/2885E1B3-BCE3-4538-BE33-1F3D736667C6/41384/InformeULM2007.pdf accessed Aug 7,2009" TargetMode="External"/><Relationship Id="rId9" Type="http://schemas.openxmlformats.org/officeDocument/2006/relationships/hyperlink" Target="http://www.fomento.es/NR/rdonlyres/2885E1B3-BCE3-4538-BE33-1F3D736667C6/41384/InformeULM2007.pdf accessed Aug 7,2009" TargetMode="External"/><Relationship Id="rId10" Type="http://schemas.openxmlformats.org/officeDocument/2006/relationships/hyperlink" Target="http://www.fomento.es/NR/rdonlyres/2885E1B3-BCE3-4538-BE33-1F3D736667C6/41384/InformeULM2007.pdf accessed Aug 7,2009" TargetMode="External"/><Relationship Id="rId11" Type="http://schemas.openxmlformats.org/officeDocument/2006/relationships/hyperlink" Target="http://www.fomento.es/NR/rdonlyres/2885E1B3-BCE3-4538-BE33-1F3D736667C6/41384/InformeULM2007.pdf accessed Aug 7,2009" TargetMode="External"/><Relationship Id="rId12" Type="http://schemas.openxmlformats.org/officeDocument/2006/relationships/hyperlink" Target="http://www.fomento.es/NR/rdonlyres/2885E1B3-BCE3-4538-BE33-1F3D736667C6/41384/InformeULM2007.pdf accessed Aug 7,2009" TargetMode="External"/><Relationship Id="rId13" Type="http://schemas.openxmlformats.org/officeDocument/2006/relationships/hyperlink" Target="http://www.fomento.es/NR/rdonlyres/2885E1B3-BCE3-4538-BE33-1F3D736667C6/41384/InformeULM2007.pdf accessed Aug 7,2009" TargetMode="Externa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557360"/>
            <a:ext cx="52560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paring ULM </a:t>
            </a:r>
            <a:br>
              <a:rPr sz="32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Microlight)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gulation and accidentology in two EU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4797000"/>
            <a:ext cx="39589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 Ortiz M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pain Delegate FAI-CI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AI-CIMP Conference Zagreb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6134040" y="476280"/>
            <a:ext cx="2470320" cy="576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 it seems to be the case in Gliding*, the level of medical requirements for the pilots seems not to correlate with the achieved safety in UL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e raw data to gain evidence exist and are nowadays easier to obtain, but they are difficult to process statistically due to the differences in accident reporting and analy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t is suggested to perform analysis from the descriptions / basic data and not from the interpretations of the different national bod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24000" y="6237360"/>
            <a:ext cx="84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*Ortiz P, Panel 19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ir Sports Medicine Médecine des sports aériens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 ICASM Madrid 2001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aasm.org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ullMadridProgramwithAbstracts.pdf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 accessed Aug 7,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1989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Thanks !</a:t>
            </a:r>
            <a:br>
              <a:rPr sz="5400"/>
            </a:br>
            <a:br>
              <a:rPr sz="5400"/>
            </a:b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Hvala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LM Medical Regulations in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24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port license requires an initial medical certificate stating absence o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Weight – height de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rdiovascular illnesses causing alteration of left ejection fraction and/or rythm at effort or at reco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volutionary pleuro pulmonary le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vere morphological static and/or dynamic alterations, particularly in dorso-lumbar vertebral column with risk of acute pathology or accelerated w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pilepsy, loss of consciousness, vertigo, equilibrium alt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Regul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Law 99-223, 23 march 1999, Art. 5 on health of sport and fight against d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Code de Santé Publique (Art. L.3622-1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95280" y="5084640"/>
            <a:ext cx="8209080" cy="1321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It is not an aviation medical examination: all doctors can perform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The Federation Drs will make a decision on the cases were a pathology is present and the candidate asks for revi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LM Medical Regulations in 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2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JAA FCL Class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Regul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DGAC, Orden ORDEN FOM/1267/2008 de 28 de abril (BOE 110, 6 May 2008)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95280" y="5084640"/>
            <a:ext cx="8352000" cy="707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It is an aviation medical examination: only authrised AMEs can perform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The Federation Drs have no official role to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ULM Acc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273640" cy="392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uses of ULM accidents Spa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03280" y="1557360"/>
          <a:ext cx="4753080" cy="3881520"/>
        </p:xfrm>
        <a:graphic>
          <a:graphicData uri="http://schemas.openxmlformats.org/drawingml/2006/table">
            <a:tbl>
              <a:tblPr/>
              <a:tblGrid>
                <a:gridCol w="4227480"/>
                <a:gridCol w="525600"/>
              </a:tblGrid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psychological (stress, excess of confiden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s / Unkn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vironment meteorolog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: systems failure/disfunctionning including poor mainte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249"/>
          <p:cNvSpPr/>
          <p:nvPr/>
        </p:nvSpPr>
        <p:spPr>
          <a:xfrm>
            <a:off x="468360" y="5805360"/>
            <a:ext cx="828036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dapted from : Min Fomento CIAIAC: Accidentalidad de ULM en España durante el año 2007 CIAIC ULM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http://www.fomento.es/NR/rdonlyres/2885E1B3-BCE3-4538-BE33-1F3D736667C6/41384/InformeULM2007.pdf accessed Aug 7,2009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77"/>
          <p:cNvSpPr/>
          <p:nvPr/>
        </p:nvSpPr>
        <p:spPr>
          <a:xfrm>
            <a:off x="7236000" y="2205000"/>
            <a:ext cx="151272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79"/>
          <p:cNvSpPr/>
          <p:nvPr/>
        </p:nvSpPr>
        <p:spPr>
          <a:xfrm>
            <a:off x="6156360" y="321300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80"/>
          <p:cNvSpPr/>
          <p:nvPr/>
        </p:nvSpPr>
        <p:spPr>
          <a:xfrm>
            <a:off x="6156360" y="2637000"/>
            <a:ext cx="72072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82"/>
          <p:cNvSpPr/>
          <p:nvPr/>
        </p:nvSpPr>
        <p:spPr>
          <a:xfrm flipV="1">
            <a:off x="6156360" y="494172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85"/>
          <p:cNvSpPr/>
          <p:nvPr/>
        </p:nvSpPr>
        <p:spPr>
          <a:xfrm>
            <a:off x="6227640" y="515772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86"/>
          <p:cNvSpPr/>
          <p:nvPr/>
        </p:nvSpPr>
        <p:spPr>
          <a:xfrm>
            <a:off x="6227640" y="392436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87"/>
          <p:cNvSpPr/>
          <p:nvPr/>
        </p:nvSpPr>
        <p:spPr>
          <a:xfrm>
            <a:off x="6156360" y="3860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88"/>
          <p:cNvSpPr/>
          <p:nvPr/>
        </p:nvSpPr>
        <p:spPr>
          <a:xfrm flipV="1">
            <a:off x="6156360" y="4436640"/>
            <a:ext cx="287280" cy="716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uses of ULM accidents Franc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268360" y="1197000"/>
          <a:ext cx="3672000" cy="3508200"/>
        </p:xfrm>
        <a:graphic>
          <a:graphicData uri="http://schemas.openxmlformats.org/drawingml/2006/table">
            <a:tbl>
              <a:tblPr/>
              <a:tblGrid>
                <a:gridCol w="2846520"/>
                <a:gridCol w="8254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behaviour, dec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skills fail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med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vironment external cau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45"/>
          <p:cNvSpPr/>
          <p:nvPr/>
        </p:nvSpPr>
        <p:spPr>
          <a:xfrm>
            <a:off x="6948360" y="1773360"/>
            <a:ext cx="1513080" cy="28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52"/>
          <p:cNvSpPr/>
          <p:nvPr/>
        </p:nvSpPr>
        <p:spPr>
          <a:xfrm>
            <a:off x="5940360" y="184464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3"/>
          <p:cNvSpPr/>
          <p:nvPr/>
        </p:nvSpPr>
        <p:spPr>
          <a:xfrm>
            <a:off x="5940360" y="3141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4"/>
          <p:cNvSpPr/>
          <p:nvPr/>
        </p:nvSpPr>
        <p:spPr>
          <a:xfrm>
            <a:off x="5940360" y="2349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55"/>
          <p:cNvSpPr/>
          <p:nvPr/>
        </p:nvSpPr>
        <p:spPr>
          <a:xfrm flipV="1">
            <a:off x="5940360" y="3715920"/>
            <a:ext cx="287280" cy="730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94"/>
          <p:cNvSpPr/>
          <p:nvPr/>
        </p:nvSpPr>
        <p:spPr>
          <a:xfrm>
            <a:off x="250920" y="6010200"/>
            <a:ext cx="87138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dapted from: FFPULM  Mémo Sécurité du pilote ULM Ed. 10/2008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http://www.ffplum.com/Images/Upload/Securite/Annee%202008/MEMO%20SECURITE%202008_.pdf accessed Aug7, 2009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5"/>
          <p:cNvSpPr/>
          <p:nvPr/>
        </p:nvSpPr>
        <p:spPr>
          <a:xfrm flipV="1">
            <a:off x="5940360" y="4365720"/>
            <a:ext cx="287280" cy="712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LM Acc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19120" y="981000"/>
          <a:ext cx="8229600" cy="33544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14240"/>
                <a:gridCol w="1622520"/>
                <a:gridCol w="1700280"/>
              </a:tblGrid>
              <a:tr h="116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 of registered ULM aircrafts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ified accid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Rectangle 535"/>
          <p:cNvSpPr/>
          <p:nvPr/>
        </p:nvSpPr>
        <p:spPr>
          <a:xfrm>
            <a:off x="395280" y="4797360"/>
            <a:ext cx="842472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Spain: Min Fomento CIAIAC: Accidentalidad de ULM en España durante el año 2007 CIAIC U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omento.es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NR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donlyres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2885E1B3-BCE3-4538-BE33-1F3D736667C6/41384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nformeULM2007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df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accessed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Aug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 7,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France: Bureau Enquètes et Analyses  / http://www.bea.aero/etudes/securite2007/securite2007.html accessed Aug 7, 2009  and Aviation Civile / Aviation légère / Vol moteur ULM (secteur associatif) / http://www.aviation-civile.gouv.fr/html/avia_leg/statistiques/oac_stat2007_ulm.pdf accessed Aug 7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ccident / Aircraft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403280" y="1557360"/>
          <a:ext cx="6264360" cy="4032360"/>
        </p:xfrm>
        <a:graphic>
          <a:graphicData uri="http://schemas.openxmlformats.org/drawingml/2006/table">
            <a:tbl>
              <a:tblPr/>
              <a:tblGrid>
                <a:gridCol w="2089080"/>
                <a:gridCol w="2086200"/>
                <a:gridCol w="2089080"/>
              </a:tblGrid>
              <a:tr h="74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ident / Aircraft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1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7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5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8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F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hough the limitations in the methodology and statistical approach, it seems that different regulatory approaches only result in number of participants and not in the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viation authorities apply different analysis methodologies in EU; Eventually EASA might bring a  coordinated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09:33:19Z</dcterms:created>
  <dc:creator>PEDRO.ORTIZ</dc:creator>
  <dc:description/>
  <dc:language>en-US</dc:language>
  <cp:lastModifiedBy>Fustis</cp:lastModifiedBy>
  <dcterms:modified xsi:type="dcterms:W3CDTF">2014-05-03T11:11:36Z</dcterms:modified>
  <cp:revision>47</cp:revision>
  <dc:subject/>
  <dc:title>Thoughts on ULM regulation and accidentology </dc:title>
</cp:coreProperties>
</file>