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5AA1-D7EB-4EF0-B80D-0DED1CD13D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8086-3041-4F4C-9189-D3C8F4F807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B513-29DF-4E5B-841E-8B4AD659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9041-BECD-4EC1-884E-D0B099DA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4D63-5EA0-43C2-A348-489C539D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364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272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364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272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357-BF7D-432B-A618-CFA1AC41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11F-E996-4C6C-AC43-796E63B1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67D2-9EEF-4B3A-83A6-5194214D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E36E-74EF-4A19-892F-2CEBFB74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369-90C7-481B-A585-4D3FD5B0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D8B8-74AE-4BCD-852C-3AB38469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F83-8AE2-42AB-BAC7-D87A843B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8B0-A077-4840-93F3-929CFB25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1580-1A90-46FA-B576-5AEC4B36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6AB9-AD5B-4033-810D-081B324590D4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A18B-6DD8-4353-B50D-9C6BF117DEBF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4508280"/>
            <a:ext cx="95169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Eurostile"/>
              </a:rPr>
              <a:t>Juergen K Knueppel MD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Eurostile"/>
              </a:rPr>
              <a:t>FAI-CIMP Issues  </a:t>
            </a:r>
            <a:r>
              <a:rPr b="0" lang="de-DE" sz="4000" spc="-1" strike="noStrike">
                <a:solidFill>
                  <a:srgbClr val="000000"/>
                </a:solidFill>
                <a:latin typeface="Eurostile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Eurostile"/>
              </a:rPr>
              <a:t>-commission internationale medico physiologique-</a:t>
            </a:r>
            <a:endParaRPr b="0" lang="en-US" sz="1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9800" y="1052280"/>
            <a:ext cx="94042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Flight Safety Data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Human Factors, Request for competent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Accident Investigation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Advise to Commissions,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ICAO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Proactive Flight Safty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 Initiativ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 TUE Pannel  -  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necessary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Eurostile"/>
              </a:rPr>
              <a:t>“Doping“ waivor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oblem:(“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older”) athletes taking already for year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quired medicine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Answe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lated questions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 anytim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: Medical and Physiological expertis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300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EASA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Medical Licencing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Sporting Licence (FAA-SPL ?), </a:t>
            </a:r>
            <a:r>
              <a:rPr b="0" lang="de-DE" sz="1200" spc="-1" strike="noStrike">
                <a:solidFill>
                  <a:srgbClr val="000000"/>
                </a:solidFill>
                <a:latin typeface="Eurostile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Support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i.e. G-Forces, Oxygen, Emergency Plans, CISM, other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09:05:47Z</dcterms:modified>
  <cp:revision>484</cp:revision>
  <dc:subject/>
  <dc:title>Présentation PowerPoint</dc:title>
</cp:coreProperties>
</file>