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907588" cy="6858000"/>
  <p:notesSz cx="9932988" cy="6792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932400" cy="679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56271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3125520" y="509400"/>
            <a:ext cx="3679560" cy="254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-3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562716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00A3-032B-4CE6-B782-BFF099080C6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5627520" y="645480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F01C-065B-45A0-9709-A0A1E2CF599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3125880" y="509760"/>
            <a:ext cx="3679560" cy="254772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1324080" y="3227040"/>
            <a:ext cx="728352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gfdngfdng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9863-95AB-4599-B188-A9333517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B34-E89A-43BF-AB40-E7E26353F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10E1-E121-4035-880F-17BC3D4AD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4160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10680" y="141264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7252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4160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10680" y="3840480"/>
            <a:ext cx="301788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F8B9-5826-43C3-98E6-1F245C93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A6CB-1719-4ED3-ADA0-B9C6ACA4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CE9-B972-4DFE-9E45-ADFD637F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A7F3-E14A-4F22-910D-A060D0F8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159-256D-4A5C-9B9D-8415B9C7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66760" y="228240"/>
            <a:ext cx="948672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375A-BDBF-4664-8E30-435F479AF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FEE0-2665-411B-B825-0A1E0D00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5280" y="384048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2E3C-E18F-49A1-9694-511C1DFC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51920"/>
            <a:ext cx="9486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252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5280" y="1412640"/>
            <a:ext cx="45738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72520" y="3840480"/>
            <a:ext cx="9372600" cy="221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D3CF-0D9F-4DBE-97AE-B95E484C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228240"/>
            <a:ext cx="94867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2520" y="1412640"/>
            <a:ext cx="9372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1" marL="343080" indent="-343080">
              <a:spcBef>
                <a:spcPts val="799"/>
              </a:spcBef>
              <a:buClr>
                <a:srgbClr val="003366"/>
              </a:buClr>
              <a:buSzPct val="70000"/>
              <a:buFont typeface="Wingdings 2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Eurostile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320" y="6552720"/>
            <a:ext cx="206352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E5C6-B09A-4F64-8C9D-C87C8FE9684A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552720"/>
            <a:ext cx="20638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0925-AF12-4CAF-B5A8-935FFD62C9AE}" type="slidenum">
              <a:rPr b="1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"/>
          <p:cNvSpPr/>
          <p:nvPr/>
        </p:nvSpPr>
        <p:spPr>
          <a:xfrm>
            <a:off x="152280" y="6553080"/>
            <a:ext cx="845820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9372600" y="6553080"/>
            <a:ext cx="38088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4" descr="logo_fai_02_cmyk copie"/>
          <p:cNvPicPr/>
          <p:nvPr/>
        </p:nvPicPr>
        <p:blipFill>
          <a:blip r:embed="rId3"/>
          <a:stretch/>
        </p:blipFill>
        <p:spPr>
          <a:xfrm>
            <a:off x="8763120" y="5865840"/>
            <a:ext cx="495360" cy="865080"/>
          </a:xfrm>
          <a:prstGeom prst="rect">
            <a:avLst/>
          </a:prstGeom>
          <a:ln w="0">
            <a:noFill/>
          </a:ln>
        </p:spPr>
      </p:pic>
      <p:sp>
        <p:nvSpPr>
          <p:cNvPr id="8" name="Espace réservé de la date 3"/>
          <p:cNvSpPr/>
          <p:nvPr/>
        </p:nvSpPr>
        <p:spPr>
          <a:xfrm>
            <a:off x="0" y="6629400"/>
            <a:ext cx="2063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JK</a:t>
            </a:r>
            <a:fld id="{8C406E06-AC0F-4E29-8A7F-D9B2BE45E5D5}" type="datetime">
              <a:rPr b="1" lang="fr-FR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logo_fai_02_cmyk copie"/>
          <p:cNvPicPr/>
          <p:nvPr/>
        </p:nvPicPr>
        <p:blipFill>
          <a:blip r:embed="rId2"/>
          <a:stretch/>
        </p:blipFill>
        <p:spPr>
          <a:xfrm>
            <a:off x="992160" y="333360"/>
            <a:ext cx="1341360" cy="2158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2520" y="487800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Eurostile"/>
              </a:rPr>
              <a:t>CIMP </a:t>
            </a:r>
            <a:br>
              <a:rPr sz="4400"/>
            </a:br>
            <a:r>
              <a:rPr b="0" lang="fr-FR" sz="2000" spc="-1" strike="noStrike">
                <a:solidFill>
                  <a:srgbClr val="000000"/>
                </a:solidFill>
                <a:latin typeface="Eurostile"/>
              </a:rPr>
              <a:t>COMMISSION INTERNATIONALE MÉDICO-PHYSIOLOGIQUE</a:t>
            </a:r>
            <a:r>
              <a:rPr b="0" lang="fr-FR" sz="4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54" name="Picture 4" descr="logo_cimp_01_cmyk (300-15)"/>
          <p:cNvPicPr/>
          <p:nvPr/>
        </p:nvPicPr>
        <p:blipFill>
          <a:blip r:embed="rId3"/>
          <a:stretch/>
        </p:blipFill>
        <p:spPr>
          <a:xfrm>
            <a:off x="3152880" y="2421000"/>
            <a:ext cx="31320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2520" y="259920"/>
            <a:ext cx="943956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Eurostile"/>
              </a:rPr>
              <a:t>FAI   -   CIMP</a:t>
            </a:r>
            <a:endParaRPr b="0" lang="en-US" sz="60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2421000"/>
            <a:ext cx="9372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Eurostile"/>
              </a:rPr>
              <a:t>Physiological Stresses in Air-Sports</a:t>
            </a:r>
            <a:r>
              <a:rPr b="0" lang="de-DE" sz="2400" spc="-1" strike="noStrike">
                <a:solidFill>
                  <a:srgbClr val="000000"/>
                </a:solidFill>
                <a:latin typeface="Eurostile"/>
              </a:rPr>
              <a:t>, various Disciplines</a:t>
            </a:r>
            <a:endParaRPr b="0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irst Draft Opinion 05/2014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Eurostile"/>
              </a:rPr>
              <a:t>FAI CIMP</a:t>
            </a:r>
            <a:endParaRPr b="0" lang="en-US" sz="2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520" y="260280"/>
            <a:ext cx="94870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Eurostile"/>
              </a:rPr>
              <a:t>Flight Stresses in Sports-Aviation  </a:t>
            </a:r>
            <a:r>
              <a:rPr b="0" lang="en-GB" sz="1400" spc="-1" strike="noStrike">
                <a:solidFill>
                  <a:srgbClr val="000000"/>
                </a:solidFill>
                <a:latin typeface="Eurostile"/>
              </a:rPr>
              <a:t>(FAICIMP first draft opinion 052014)</a:t>
            </a:r>
            <a:endParaRPr b="0" lang="en-US" sz="1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9906120" cy="49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en-GB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 =min / 5= max     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ACRO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odeli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Ballon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lidng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aG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icroL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arChu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eli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i="1" lang="de-DE" sz="1400" spc="-1" strike="noStrike" u="sng">
                <a:solidFill>
                  <a:srgbClr val="000000"/>
                </a:solidFill>
                <a:uFillTx/>
                <a:latin typeface="Eurostile"/>
              </a:rPr>
              <a:t>"Stresses"</a:t>
            </a:r>
            <a:r>
              <a:rPr b="0" i="1" lang="de-DE" sz="1000" spc="-1" strike="noStrike" u="sng">
                <a:solidFill>
                  <a:srgbClr val="000000"/>
                </a:solidFill>
                <a:uFillTx/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 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ental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Nutrition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hronoBioStrain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OrientationalStr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PrecisionCoor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6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MuscleForce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7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G-Forces 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8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CardioStress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ExtremeTemp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0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VisualPerform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baricCond</a:t>
            </a:r>
            <a:r>
              <a:rPr b="1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12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Hypoxia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4</a:t>
            </a:r>
            <a:r>
              <a:rPr b="1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2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3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Eurostile"/>
              </a:rPr>
              <a:t>1</a:t>
            </a: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Eurosti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72520" y="691920"/>
            <a:ext cx="96332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Eurostile"/>
              </a:rPr>
              <a:t>Thank You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 for your attention !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Comment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Qu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Suggestions ?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Eurostile"/>
              </a:rPr>
              <a:t>- Approach CIMP for INFO exchange -</a:t>
            </a:r>
            <a:endParaRPr b="0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224160" y="1268280"/>
            <a:ext cx="5400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8:51:40Z</dcterms:created>
  <dc:creator>Stephane Desprez</dc:creator>
  <dc:description/>
  <dc:language>en-US</dc:language>
  <cp:lastModifiedBy>Fustis</cp:lastModifiedBy>
  <cp:lastPrinted>2011-05-01T20:14:46Z</cp:lastPrinted>
  <dcterms:modified xsi:type="dcterms:W3CDTF">2014-05-08T11:15:45Z</dcterms:modified>
  <cp:revision>586</cp:revision>
  <dc:subject/>
  <dc:title>Présentation PowerPoint</dc:title>
</cp:coreProperties>
</file>