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A18B-5B05-47BC-9D61-719CF032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8F13-98A6-4EB1-A9A6-A336D9BE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62CB-142F-4C09-AEF1-73D608BA3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D373-AB65-4F3F-B657-464C13CF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99A1-E6D1-405A-9F7E-5A4E0442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613F-8A5F-47F4-9647-54FA22E9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A348-2D5F-4963-BF7A-4F3D9AEA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674F-7602-45C7-8642-4083540A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961A-6D96-48AF-8D76-A1456F50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EFB4-9449-464C-983D-CA5AA053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8246-1A38-4939-8E00-1F3A6849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43C4-338E-420E-B301-2BF4F960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52ED-E6B3-48E9-82C9-6464EEAA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5D21-9345-4946-91FC-7D3F6DDC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300A-0862-4B66-A7B0-4FE421D8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2D5A-A5D3-4BC9-9F47-C8EAC321B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9728-702E-4B4D-B70A-D5AA57AB2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8EC9-649B-405C-97DC-5D65BC1C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F2D5-2C99-4DEC-8876-3EDF3AD4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A609-24FB-48C5-B47A-1483BCF7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2F3C-E01E-4D39-AEC7-55A6C498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5590-D88C-42D5-8EA7-F86FDD5E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3112-568F-488B-B0E0-55CCA7EE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7D8A-C8D2-456E-8327-871F0689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810C-E238-485F-8D8E-3928B66ACD2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51272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39640" y="623736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IVL Plenary 2006, Lausa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C37A-1C0C-4921-A4CB-1806D22FB71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512720" cy="977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5000" spc="-1" strike="noStrike">
                <a:solidFill>
                  <a:srgbClr val="006633"/>
                </a:solidFill>
                <a:latin typeface="Garamond"/>
              </a:rPr>
              <a:t>CIVL Competition Software and database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Agust Gudmund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Vice-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Chairman of the Software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Internet and loc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modules available at the 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modules also standalone Windows Cl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ata transfer to and from the CIVL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Benefi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or CIVL faster and more accurat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rganiz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REE competition software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Get data from CIVL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Easy delivery of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ccurate personal data (like spelling of na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Online regi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ore information on results and WP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Time and mo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Timeframe (inten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atabase ** Version 1.0 almost Ready 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Competitions, pilots, WPRS,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ro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curacy 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XC **Before year end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Budget is to make sure the project will not stop because of money shortage.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Hopefully it will not all be used. 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One year worth of Sanction fe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urrent syst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- pilot ranking  (on CIVL we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ce 2003 –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any flight verification systems (gp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G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any other systems (some fr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ther systems (online registration..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New software projec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– pilot ran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eb client if Internet connection i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indows client for standalone 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Data is transferred from CIVL competi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Results returned to the CIV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For all CIVL disciplines</a:t>
            </a: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1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2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5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Aeroba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ccu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erobatic (solo and syncr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000" spc="-1" strike="noStrike">
                <a:solidFill>
                  <a:srgbClr val="000000"/>
                </a:solidFill>
                <a:latin typeface="Arial"/>
              </a:rPr>
              <a:t>Different needs for tasks/scoring/WP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IVL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 database (register even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ay sanction f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Results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ask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Scores of every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racklo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Total 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plil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Pilots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have unique 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pilots 2001-2005 already regist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and update own personal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for compet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ompet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egister a competi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participants (already in the databa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reate ta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o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task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competition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competition to WPRS </a:t>
            </a: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and CIVL databa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Ran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disciplines (and fema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fferent WPRS formulas for each discip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nking updated reg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ore information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Tasks and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WPRS (with backward his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Scoring for all discip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curacy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robati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X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ifferent scoring formu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0:30:12Z</dcterms:created>
  <dc:creator>ag</dc:creator>
  <dc:description/>
  <dc:language>en-US</dc:language>
  <cp:lastModifiedBy>ag</cp:lastModifiedBy>
  <dcterms:modified xsi:type="dcterms:W3CDTF">2006-02-11T10:45:48Z</dcterms:modified>
  <cp:revision>15</cp:revision>
  <dc:subject/>
  <dc:title>CIVL Competition Software </dc:title>
</cp:coreProperties>
</file>